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B34-845C-412B-943A-B26A60D7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F3F-32D7-419C-B178-85E3B2F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5AA-35C9-41AC-A696-F289F057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652-78A7-483E-9B99-4C291EFF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494C-7789-405B-8745-E0D8B6D1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53B-0B67-4B48-8A7A-D361F059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8CF-0277-4DAC-B876-65E16B34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CC1-B8A5-4CE1-BA26-790D7B54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2D0B-6EDD-4EAA-B651-DD0059D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993-59AD-4C18-ABE2-1F5BDCE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E675-A028-4559-B642-B775C37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D34-62FB-4B80-85D7-D868ECA8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19A-C17C-4285-8041-A35B3C0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F4BB-4A69-474D-B89A-B456403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98E5-ECB2-4C20-BB62-C52B379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4C7-38A2-4BB2-8A5A-0D977B2A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6787-20C5-4DD6-9157-972492C6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577-C1DC-48F7-9982-C0C8B70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6C3-4595-43EB-93AA-93CBA82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C23-5545-4CBD-A791-A428A32A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F63-E8B5-47D9-8CBC-DB3FC080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32C-7F4C-42A2-B57C-A045C92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556-4E45-499A-9BB7-8A60462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8AE-10A2-4BA6-8B16-DEF0E11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c2c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240-EDAD-4422-BA53-AB3A721329D8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87C5-78B9-41B6-8EC1-04C9CF30AD73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a25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Unit 11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Dividing Decimals by Decimals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Warm - up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c9800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35.2 </a:t>
            </a:r>
            <a:r>
              <a:rPr b="0" lang="en-US" sz="3200" spc="-1" strike="noStrike">
                <a:solidFill>
                  <a:srgbClr val="4a2500"/>
                </a:solidFill>
                <a:latin typeface="Tahoma"/>
                <a:ea typeface="Tahoma"/>
              </a:rPr>
              <a:t>÷ 4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9c9800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  <a:ea typeface="Tahoma"/>
              </a:rPr>
              <a:t>8.214 ÷ 15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68320"/>
            <a:ext cx="1785960" cy="1581480"/>
          </a:xfrm>
          <a:custGeom>
            <a:avLst/>
            <a:gdLst/>
            <a:ahLst/>
            <a:rect l="l" t="t" r="r" b="b"/>
            <a:pathLst>
              <a:path w="4962" h="4392">
                <a:moveTo>
                  <a:pt x="14635" y="5953"/>
                </a:moveTo>
                <a:cubicBezTo>
                  <a:pt x="14686" y="5979"/>
                  <a:pt x="14863" y="5929"/>
                  <a:pt x="14957" y="5953"/>
                </a:cubicBezTo>
                <a:cubicBezTo>
                  <a:pt x="15046" y="5998"/>
                  <a:pt x="15076" y="6004"/>
                  <a:pt x="15081" y="6077"/>
                </a:cubicBezTo>
                <a:cubicBezTo>
                  <a:pt x="14993" y="6263"/>
                  <a:pt x="14889" y="6362"/>
                  <a:pt x="14684" y="6424"/>
                </a:cubicBezTo>
                <a:cubicBezTo>
                  <a:pt x="14650" y="6424"/>
                  <a:pt x="14651" y="6420"/>
                  <a:pt x="14709" y="6400"/>
                </a:cubicBezTo>
                <a:cubicBezTo>
                  <a:pt x="14878" y="6376"/>
                  <a:pt x="15092" y="6325"/>
                  <a:pt x="15106" y="6573"/>
                </a:cubicBezTo>
                <a:cubicBezTo>
                  <a:pt x="15117" y="6773"/>
                  <a:pt x="14799" y="6833"/>
                  <a:pt x="14660" y="6846"/>
                </a:cubicBezTo>
                <a:cubicBezTo>
                  <a:pt x="14475" y="6864"/>
                  <a:pt x="14450" y="6862"/>
                  <a:pt x="14412" y="6722"/>
                </a:cubicBezTo>
              </a:path>
              <a:path w="4962" h="4392">
                <a:moveTo>
                  <a:pt x="15776" y="5854"/>
                </a:moveTo>
                <a:cubicBezTo>
                  <a:pt x="15662" y="5854"/>
                  <a:pt x="15564" y="5842"/>
                  <a:pt x="15453" y="5829"/>
                </a:cubicBezTo>
                <a:cubicBezTo>
                  <a:pt x="15437" y="5829"/>
                  <a:pt x="15420" y="5829"/>
                  <a:pt x="15404" y="5829"/>
                </a:cubicBezTo>
                <a:cubicBezTo>
                  <a:pt x="15340" y="5893"/>
                  <a:pt x="15337" y="5986"/>
                  <a:pt x="15329" y="6077"/>
                </a:cubicBezTo>
                <a:cubicBezTo>
                  <a:pt x="15329" y="6168"/>
                  <a:pt x="15329" y="6193"/>
                  <a:pt x="15329" y="6251"/>
                </a:cubicBezTo>
                <a:cubicBezTo>
                  <a:pt x="15487" y="6238"/>
                  <a:pt x="15589" y="6130"/>
                  <a:pt x="15751" y="6127"/>
                </a:cubicBezTo>
                <a:cubicBezTo>
                  <a:pt x="15930" y="6124"/>
                  <a:pt x="16054" y="6221"/>
                  <a:pt x="15999" y="6400"/>
                </a:cubicBezTo>
                <a:cubicBezTo>
                  <a:pt x="15933" y="6616"/>
                  <a:pt x="15723" y="6635"/>
                  <a:pt x="15528" y="6623"/>
                </a:cubicBezTo>
                <a:cubicBezTo>
                  <a:pt x="15454" y="6604"/>
                  <a:pt x="15447" y="6596"/>
                  <a:pt x="15404" y="6598"/>
                </a:cubicBezTo>
              </a:path>
              <a:path w="4962" h="4392">
                <a:moveTo>
                  <a:pt x="16297" y="6524"/>
                </a:moveTo>
                <a:lnTo>
                  <a:pt x="16297" y="6524"/>
                </a:lnTo>
              </a:path>
              <a:path w="4962" h="4392">
                <a:moveTo>
                  <a:pt x="16793" y="5829"/>
                </a:moveTo>
                <a:cubicBezTo>
                  <a:pt x="16978" y="5862"/>
                  <a:pt x="17133" y="5945"/>
                  <a:pt x="17190" y="6152"/>
                </a:cubicBezTo>
                <a:cubicBezTo>
                  <a:pt x="17248" y="6361"/>
                  <a:pt x="17042" y="6504"/>
                  <a:pt x="16867" y="6548"/>
                </a:cubicBezTo>
                <a:cubicBezTo>
                  <a:pt x="16758" y="6548"/>
                  <a:pt x="16732" y="6553"/>
                  <a:pt x="16669" y="6524"/>
                </a:cubicBezTo>
                <a:cubicBezTo>
                  <a:pt x="16753" y="6366"/>
                  <a:pt x="16904" y="6259"/>
                  <a:pt x="17115" y="6300"/>
                </a:cubicBezTo>
                <a:cubicBezTo>
                  <a:pt x="17262" y="6328"/>
                  <a:pt x="17307" y="6447"/>
                  <a:pt x="17314" y="6573"/>
                </a:cubicBezTo>
                <a:cubicBezTo>
                  <a:pt x="17314" y="6598"/>
                  <a:pt x="17314" y="6606"/>
                  <a:pt x="17314" y="6623"/>
                </a:cubicBezTo>
              </a:path>
              <a:path w="4962" h="4392">
                <a:moveTo>
                  <a:pt x="14064" y="6896"/>
                </a:moveTo>
                <a:cubicBezTo>
                  <a:pt x="14064" y="6904"/>
                  <a:pt x="14064" y="6913"/>
                  <a:pt x="14064" y="6921"/>
                </a:cubicBezTo>
                <a:cubicBezTo>
                  <a:pt x="14055" y="6881"/>
                  <a:pt x="14044" y="6900"/>
                  <a:pt x="14039" y="6846"/>
                </a:cubicBezTo>
                <a:cubicBezTo>
                  <a:pt x="14026" y="6699"/>
                  <a:pt x="14019" y="6547"/>
                  <a:pt x="14015" y="6400"/>
                </a:cubicBezTo>
                <a:cubicBezTo>
                  <a:pt x="14011" y="6234"/>
                  <a:pt x="14002" y="6062"/>
                  <a:pt x="13990" y="5904"/>
                </a:cubicBezTo>
                <a:cubicBezTo>
                  <a:pt x="13987" y="5869"/>
                  <a:pt x="13964" y="5775"/>
                  <a:pt x="13965" y="5755"/>
                </a:cubicBezTo>
                <a:cubicBezTo>
                  <a:pt x="13966" y="5715"/>
                  <a:pt x="13988" y="5687"/>
                  <a:pt x="13990" y="5680"/>
                </a:cubicBezTo>
                <a:cubicBezTo>
                  <a:pt x="13998" y="5649"/>
                  <a:pt x="13993" y="5617"/>
                  <a:pt x="14015" y="5606"/>
                </a:cubicBezTo>
                <a:cubicBezTo>
                  <a:pt x="14059" y="5584"/>
                  <a:pt x="14215" y="5561"/>
                  <a:pt x="14263" y="5556"/>
                </a:cubicBezTo>
                <a:cubicBezTo>
                  <a:pt x="14382" y="5543"/>
                  <a:pt x="14524" y="5522"/>
                  <a:pt x="14635" y="5531"/>
                </a:cubicBezTo>
                <a:cubicBezTo>
                  <a:pt x="14795" y="5544"/>
                  <a:pt x="14944" y="5556"/>
                  <a:pt x="15106" y="5556"/>
                </a:cubicBezTo>
                <a:cubicBezTo>
                  <a:pt x="15348" y="5556"/>
                  <a:pt x="15582" y="5552"/>
                  <a:pt x="15825" y="5556"/>
                </a:cubicBezTo>
                <a:cubicBezTo>
                  <a:pt x="16109" y="5560"/>
                  <a:pt x="16387" y="5541"/>
                  <a:pt x="16669" y="5531"/>
                </a:cubicBezTo>
                <a:cubicBezTo>
                  <a:pt x="17040" y="5517"/>
                  <a:pt x="17417" y="5526"/>
                  <a:pt x="17785" y="5556"/>
                </a:cubicBezTo>
                <a:cubicBezTo>
                  <a:pt x="17826" y="5556"/>
                  <a:pt x="17834" y="5556"/>
                  <a:pt x="17859" y="5556"/>
                </a:cubicBezTo>
              </a:path>
              <a:path w="4962" h="4392">
                <a:moveTo>
                  <a:pt x="12898" y="5953"/>
                </a:moveTo>
                <a:cubicBezTo>
                  <a:pt x="12946" y="5985"/>
                  <a:pt x="12946" y="6103"/>
                  <a:pt x="12948" y="6176"/>
                </a:cubicBezTo>
                <a:cubicBezTo>
                  <a:pt x="12948" y="6244"/>
                  <a:pt x="12951" y="6263"/>
                  <a:pt x="12923" y="6300"/>
                </a:cubicBezTo>
                <a:cubicBezTo>
                  <a:pt x="13014" y="6300"/>
                  <a:pt x="13108" y="6271"/>
                  <a:pt x="13196" y="6251"/>
                </a:cubicBezTo>
                <a:cubicBezTo>
                  <a:pt x="13286" y="6228"/>
                  <a:pt x="13310" y="6220"/>
                  <a:pt x="13370" y="6226"/>
                </a:cubicBezTo>
              </a:path>
              <a:path w="4962" h="4392">
                <a:moveTo>
                  <a:pt x="13271" y="5755"/>
                </a:moveTo>
                <a:cubicBezTo>
                  <a:pt x="13288" y="5927"/>
                  <a:pt x="13321" y="6103"/>
                  <a:pt x="13345" y="6276"/>
                </a:cubicBezTo>
                <a:cubicBezTo>
                  <a:pt x="13365" y="6424"/>
                  <a:pt x="13409" y="6575"/>
                  <a:pt x="13419" y="6722"/>
                </a:cubicBezTo>
                <a:cubicBezTo>
                  <a:pt x="13419" y="6730"/>
                  <a:pt x="13419" y="6739"/>
                  <a:pt x="13419" y="6747"/>
                </a:cubicBezTo>
              </a:path>
              <a:path w="4962" h="4392">
                <a:moveTo>
                  <a:pt x="14610" y="5110"/>
                </a:moveTo>
                <a:cubicBezTo>
                  <a:pt x="14543" y="5177"/>
                  <a:pt x="14495" y="5230"/>
                  <a:pt x="14511" y="5333"/>
                </a:cubicBezTo>
                <a:cubicBezTo>
                  <a:pt x="14525" y="5424"/>
                  <a:pt x="14591" y="5493"/>
                  <a:pt x="14684" y="5482"/>
                </a:cubicBezTo>
                <a:cubicBezTo>
                  <a:pt x="14748" y="5475"/>
                  <a:pt x="14886" y="5400"/>
                  <a:pt x="14908" y="5333"/>
                </a:cubicBezTo>
                <a:cubicBezTo>
                  <a:pt x="14926" y="5279"/>
                  <a:pt x="14918" y="5187"/>
                  <a:pt x="14858" y="5159"/>
                </a:cubicBezTo>
                <a:cubicBezTo>
                  <a:pt x="14811" y="5137"/>
                  <a:pt x="14689" y="5083"/>
                  <a:pt x="14635" y="5110"/>
                </a:cubicBezTo>
                <a:cubicBezTo>
                  <a:pt x="14610" y="5135"/>
                  <a:pt x="14602" y="5143"/>
                  <a:pt x="14585" y="5159"/>
                </a:cubicBezTo>
              </a:path>
              <a:path w="4962" h="4392">
                <a:moveTo>
                  <a:pt x="15726" y="5011"/>
                </a:moveTo>
                <a:cubicBezTo>
                  <a:pt x="15726" y="4946"/>
                  <a:pt x="15673" y="4943"/>
                  <a:pt x="15602" y="4936"/>
                </a:cubicBezTo>
                <a:cubicBezTo>
                  <a:pt x="15464" y="4923"/>
                  <a:pt x="15420" y="4978"/>
                  <a:pt x="15354" y="5035"/>
                </a:cubicBezTo>
                <a:cubicBezTo>
                  <a:pt x="15346" y="5035"/>
                  <a:pt x="15337" y="5035"/>
                  <a:pt x="15329" y="5035"/>
                </a:cubicBezTo>
                <a:cubicBezTo>
                  <a:pt x="15359" y="5153"/>
                  <a:pt x="15435" y="5175"/>
                  <a:pt x="15553" y="5209"/>
                </a:cubicBezTo>
                <a:cubicBezTo>
                  <a:pt x="15657" y="5239"/>
                  <a:pt x="15697" y="5263"/>
                  <a:pt x="15776" y="5333"/>
                </a:cubicBezTo>
                <a:cubicBezTo>
                  <a:pt x="15761" y="5449"/>
                  <a:pt x="15698" y="5468"/>
                  <a:pt x="15577" y="5482"/>
                </a:cubicBezTo>
                <a:cubicBezTo>
                  <a:pt x="15478" y="5482"/>
                  <a:pt x="15445" y="5482"/>
                  <a:pt x="15379" y="5482"/>
                </a:cubicBezTo>
                <a:cubicBezTo>
                  <a:pt x="15379" y="5357"/>
                  <a:pt x="15417" y="5324"/>
                  <a:pt x="15503" y="5234"/>
                </a:cubicBezTo>
                <a:cubicBezTo>
                  <a:pt x="15575" y="5159"/>
                  <a:pt x="15687" y="5065"/>
                  <a:pt x="15776" y="5011"/>
                </a:cubicBezTo>
                <a:cubicBezTo>
                  <a:pt x="15811" y="4990"/>
                  <a:pt x="15806" y="4967"/>
                  <a:pt x="15751" y="4961"/>
                </a:cubicBezTo>
                <a:cubicBezTo>
                  <a:pt x="15743" y="4961"/>
                  <a:pt x="15734" y="4961"/>
                  <a:pt x="15726" y="4961"/>
                </a:cubicBezTo>
              </a:path>
              <a:path w="4962" h="4392">
                <a:moveTo>
                  <a:pt x="14808" y="7045"/>
                </a:moveTo>
                <a:cubicBezTo>
                  <a:pt x="14886" y="7025"/>
                  <a:pt x="14938" y="6961"/>
                  <a:pt x="15032" y="6945"/>
                </a:cubicBezTo>
                <a:cubicBezTo>
                  <a:pt x="15135" y="6928"/>
                  <a:pt x="15179" y="7035"/>
                  <a:pt x="15131" y="7119"/>
                </a:cubicBezTo>
                <a:cubicBezTo>
                  <a:pt x="15085" y="7165"/>
                  <a:pt x="15073" y="7179"/>
                  <a:pt x="15032" y="7193"/>
                </a:cubicBezTo>
                <a:cubicBezTo>
                  <a:pt x="15064" y="7166"/>
                  <a:pt x="15198" y="7048"/>
                  <a:pt x="15230" y="7144"/>
                </a:cubicBezTo>
                <a:cubicBezTo>
                  <a:pt x="15272" y="7268"/>
                  <a:pt x="15126" y="7351"/>
                  <a:pt x="15032" y="7367"/>
                </a:cubicBezTo>
                <a:cubicBezTo>
                  <a:pt x="14926" y="7385"/>
                  <a:pt x="14938" y="7359"/>
                  <a:pt x="14957" y="7293"/>
                </a:cubicBezTo>
              </a:path>
              <a:path w="4962" h="4392">
                <a:moveTo>
                  <a:pt x="15478" y="6921"/>
                </a:moveTo>
                <a:cubicBezTo>
                  <a:pt x="15544" y="6882"/>
                  <a:pt x="15601" y="6892"/>
                  <a:pt x="15677" y="6921"/>
                </a:cubicBezTo>
                <a:cubicBezTo>
                  <a:pt x="15763" y="6953"/>
                  <a:pt x="15772" y="7043"/>
                  <a:pt x="15726" y="7119"/>
                </a:cubicBezTo>
                <a:cubicBezTo>
                  <a:pt x="15672" y="7208"/>
                  <a:pt x="15521" y="7209"/>
                  <a:pt x="15429" y="7218"/>
                </a:cubicBezTo>
                <a:cubicBezTo>
                  <a:pt x="15429" y="7156"/>
                  <a:pt x="15455" y="7115"/>
                  <a:pt x="15528" y="7094"/>
                </a:cubicBezTo>
                <a:cubicBezTo>
                  <a:pt x="15626" y="7066"/>
                  <a:pt x="15703" y="7138"/>
                  <a:pt x="15751" y="7193"/>
                </a:cubicBezTo>
                <a:cubicBezTo>
                  <a:pt x="15805" y="7255"/>
                  <a:pt x="15818" y="7237"/>
                  <a:pt x="15776" y="7293"/>
                </a:cubicBezTo>
              </a:path>
              <a:path w="4962" h="4392">
                <a:moveTo>
                  <a:pt x="14436" y="7317"/>
                </a:moveTo>
                <a:cubicBezTo>
                  <a:pt x="14476" y="7311"/>
                  <a:pt x="14581" y="7265"/>
                  <a:pt x="14610" y="7268"/>
                </a:cubicBezTo>
                <a:cubicBezTo>
                  <a:pt x="14635" y="7276"/>
                  <a:pt x="14659" y="7285"/>
                  <a:pt x="14684" y="7293"/>
                </a:cubicBezTo>
              </a:path>
              <a:path w="4962" h="4392">
                <a:moveTo>
                  <a:pt x="14461" y="7590"/>
                </a:moveTo>
                <a:cubicBezTo>
                  <a:pt x="14586" y="7576"/>
                  <a:pt x="14705" y="7553"/>
                  <a:pt x="14833" y="7541"/>
                </a:cubicBezTo>
                <a:cubicBezTo>
                  <a:pt x="15106" y="7515"/>
                  <a:pt x="15380" y="7491"/>
                  <a:pt x="15652" y="7466"/>
                </a:cubicBezTo>
                <a:cubicBezTo>
                  <a:pt x="15772" y="7455"/>
                  <a:pt x="15879" y="7441"/>
                  <a:pt x="15999" y="7441"/>
                </a:cubicBezTo>
              </a:path>
              <a:path w="4962" h="4392">
                <a:moveTo>
                  <a:pt x="15751" y="7665"/>
                </a:moveTo>
                <a:cubicBezTo>
                  <a:pt x="15841" y="7665"/>
                  <a:pt x="15910" y="7629"/>
                  <a:pt x="15999" y="7615"/>
                </a:cubicBezTo>
                <a:cubicBezTo>
                  <a:pt x="16016" y="7615"/>
                  <a:pt x="16032" y="7615"/>
                  <a:pt x="16049" y="7615"/>
                </a:cubicBezTo>
                <a:cubicBezTo>
                  <a:pt x="16095" y="7694"/>
                  <a:pt x="16072" y="7734"/>
                  <a:pt x="16024" y="7813"/>
                </a:cubicBezTo>
                <a:cubicBezTo>
                  <a:pt x="15981" y="7884"/>
                  <a:pt x="15934" y="7891"/>
                  <a:pt x="15900" y="7938"/>
                </a:cubicBezTo>
                <a:cubicBezTo>
                  <a:pt x="15900" y="7862"/>
                  <a:pt x="15977" y="7849"/>
                  <a:pt x="16049" y="7838"/>
                </a:cubicBezTo>
                <a:cubicBezTo>
                  <a:pt x="16127" y="7826"/>
                  <a:pt x="16128" y="7843"/>
                  <a:pt x="16173" y="7888"/>
                </a:cubicBezTo>
                <a:cubicBezTo>
                  <a:pt x="16147" y="8041"/>
                  <a:pt x="16062" y="8118"/>
                  <a:pt x="15900" y="8161"/>
                </a:cubicBezTo>
                <a:cubicBezTo>
                  <a:pt x="15829" y="8180"/>
                  <a:pt x="15779" y="8150"/>
                  <a:pt x="15751" y="8136"/>
                </a:cubicBezTo>
                <a:cubicBezTo>
                  <a:pt x="15726" y="8136"/>
                  <a:pt x="15718" y="8136"/>
                  <a:pt x="15726" y="8111"/>
                </a:cubicBezTo>
              </a:path>
              <a:path w="4962" h="4392">
                <a:moveTo>
                  <a:pt x="16991" y="6796"/>
                </a:moveTo>
                <a:cubicBezTo>
                  <a:pt x="16991" y="6735"/>
                  <a:pt x="17000" y="6719"/>
                  <a:pt x="16966" y="6697"/>
                </a:cubicBezTo>
                <a:cubicBezTo>
                  <a:pt x="16941" y="6880"/>
                  <a:pt x="16942" y="7058"/>
                  <a:pt x="16942" y="7243"/>
                </a:cubicBezTo>
                <a:cubicBezTo>
                  <a:pt x="16942" y="7309"/>
                  <a:pt x="16942" y="7375"/>
                  <a:pt x="16942" y="7441"/>
                </a:cubicBezTo>
              </a:path>
              <a:path w="4962" h="4392">
                <a:moveTo>
                  <a:pt x="16718" y="7689"/>
                </a:moveTo>
                <a:cubicBezTo>
                  <a:pt x="16718" y="7605"/>
                  <a:pt x="16719" y="7625"/>
                  <a:pt x="16793" y="7590"/>
                </a:cubicBezTo>
                <a:cubicBezTo>
                  <a:pt x="16877" y="7550"/>
                  <a:pt x="16984" y="7551"/>
                  <a:pt x="17041" y="7640"/>
                </a:cubicBezTo>
                <a:cubicBezTo>
                  <a:pt x="17119" y="7762"/>
                  <a:pt x="16998" y="7893"/>
                  <a:pt x="16917" y="7962"/>
                </a:cubicBezTo>
                <a:cubicBezTo>
                  <a:pt x="16818" y="8046"/>
                  <a:pt x="16765" y="8053"/>
                  <a:pt x="16644" y="8062"/>
                </a:cubicBezTo>
                <a:cubicBezTo>
                  <a:pt x="16682" y="7910"/>
                  <a:pt x="16733" y="7893"/>
                  <a:pt x="16892" y="7888"/>
                </a:cubicBezTo>
                <a:cubicBezTo>
                  <a:pt x="16947" y="7886"/>
                  <a:pt x="17023" y="7904"/>
                  <a:pt x="17041" y="7938"/>
                </a:cubicBezTo>
                <a:cubicBezTo>
                  <a:pt x="17041" y="7946"/>
                  <a:pt x="17041" y="7954"/>
                  <a:pt x="17041" y="7962"/>
                </a:cubicBezTo>
              </a:path>
              <a:path w="4962" h="4392">
                <a:moveTo>
                  <a:pt x="16917" y="4936"/>
                </a:moveTo>
                <a:cubicBezTo>
                  <a:pt x="16898" y="4880"/>
                  <a:pt x="16843" y="4922"/>
                  <a:pt x="16793" y="4936"/>
                </a:cubicBezTo>
                <a:cubicBezTo>
                  <a:pt x="16682" y="4968"/>
                  <a:pt x="16677" y="4984"/>
                  <a:pt x="16619" y="5060"/>
                </a:cubicBezTo>
                <a:cubicBezTo>
                  <a:pt x="16720" y="5106"/>
                  <a:pt x="16915" y="5150"/>
                  <a:pt x="16991" y="5234"/>
                </a:cubicBezTo>
                <a:cubicBezTo>
                  <a:pt x="17077" y="5327"/>
                  <a:pt x="16981" y="5415"/>
                  <a:pt x="16892" y="5432"/>
                </a:cubicBezTo>
                <a:cubicBezTo>
                  <a:pt x="16766" y="5456"/>
                  <a:pt x="16716" y="5312"/>
                  <a:pt x="16743" y="5209"/>
                </a:cubicBezTo>
                <a:cubicBezTo>
                  <a:pt x="16768" y="5113"/>
                  <a:pt x="16848" y="5033"/>
                  <a:pt x="16867" y="4936"/>
                </a:cubicBezTo>
              </a:path>
              <a:path w="4962" h="4392">
                <a:moveTo>
                  <a:pt x="15949" y="8409"/>
                </a:moveTo>
                <a:cubicBezTo>
                  <a:pt x="15969" y="8370"/>
                  <a:pt x="16064" y="8305"/>
                  <a:pt x="16123" y="8310"/>
                </a:cubicBezTo>
                <a:cubicBezTo>
                  <a:pt x="16189" y="8316"/>
                  <a:pt x="16153" y="8438"/>
                  <a:pt x="16123" y="8483"/>
                </a:cubicBezTo>
                <a:cubicBezTo>
                  <a:pt x="16106" y="8500"/>
                  <a:pt x="16090" y="8516"/>
                  <a:pt x="16073" y="8533"/>
                </a:cubicBezTo>
                <a:cubicBezTo>
                  <a:pt x="16145" y="8533"/>
                  <a:pt x="16206" y="8545"/>
                  <a:pt x="16272" y="8558"/>
                </a:cubicBezTo>
                <a:cubicBezTo>
                  <a:pt x="16382" y="8580"/>
                  <a:pt x="16185" y="8742"/>
                  <a:pt x="16148" y="8756"/>
                </a:cubicBezTo>
                <a:cubicBezTo>
                  <a:pt x="15977" y="8821"/>
                  <a:pt x="16112" y="8657"/>
                  <a:pt x="16148" y="8607"/>
                </a:cubicBezTo>
              </a:path>
              <a:path w="4962" h="4392">
                <a:moveTo>
                  <a:pt x="16991" y="8260"/>
                </a:moveTo>
                <a:cubicBezTo>
                  <a:pt x="17027" y="8207"/>
                  <a:pt x="17154" y="8174"/>
                  <a:pt x="17239" y="8210"/>
                </a:cubicBezTo>
                <a:cubicBezTo>
                  <a:pt x="17415" y="8284"/>
                  <a:pt x="17209" y="8467"/>
                  <a:pt x="17140" y="8508"/>
                </a:cubicBezTo>
                <a:cubicBezTo>
                  <a:pt x="17045" y="8556"/>
                  <a:pt x="17016" y="8573"/>
                  <a:pt x="16942" y="8558"/>
                </a:cubicBezTo>
                <a:cubicBezTo>
                  <a:pt x="16942" y="8449"/>
                  <a:pt x="17104" y="8446"/>
                  <a:pt x="17190" y="8434"/>
                </a:cubicBezTo>
                <a:cubicBezTo>
                  <a:pt x="17253" y="8425"/>
                  <a:pt x="17276" y="8419"/>
                  <a:pt x="17289" y="8458"/>
                </a:cubicBezTo>
              </a:path>
              <a:path w="4962" h="4392">
                <a:moveTo>
                  <a:pt x="15999" y="8905"/>
                </a:moveTo>
                <a:cubicBezTo>
                  <a:pt x="16240" y="8854"/>
                  <a:pt x="16483" y="8805"/>
                  <a:pt x="16718" y="8731"/>
                </a:cubicBezTo>
                <a:cubicBezTo>
                  <a:pt x="16871" y="8683"/>
                  <a:pt x="17007" y="8630"/>
                  <a:pt x="17165" y="8607"/>
                </a:cubicBezTo>
              </a:path>
              <a:path w="4962" h="4392">
                <a:moveTo>
                  <a:pt x="16942" y="8880"/>
                </a:moveTo>
                <a:cubicBezTo>
                  <a:pt x="16942" y="8977"/>
                  <a:pt x="16903" y="9058"/>
                  <a:pt x="16892" y="9153"/>
                </a:cubicBezTo>
                <a:cubicBezTo>
                  <a:pt x="16892" y="9243"/>
                  <a:pt x="16885" y="9269"/>
                  <a:pt x="16942" y="9302"/>
                </a:cubicBezTo>
                <a:cubicBezTo>
                  <a:pt x="17107" y="9289"/>
                  <a:pt x="17185" y="9283"/>
                  <a:pt x="17214" y="9103"/>
                </a:cubicBezTo>
                <a:cubicBezTo>
                  <a:pt x="17236" y="8968"/>
                  <a:pt x="17177" y="8966"/>
                  <a:pt x="17066" y="8954"/>
                </a:cubicBezTo>
              </a:path>
              <a:path w="4962" h="4392">
                <a:moveTo>
                  <a:pt x="16197" y="5383"/>
                </a:moveTo>
                <a:cubicBezTo>
                  <a:pt x="16197" y="5347"/>
                  <a:pt x="16189" y="5372"/>
                  <a:pt x="16222" y="5383"/>
                </a:cubicBezTo>
                <a:cubicBezTo>
                  <a:pt x="16218" y="5370"/>
                  <a:pt x="16174" y="5330"/>
                  <a:pt x="16148" y="5358"/>
                </a:cubicBezTo>
                <a:cubicBezTo>
                  <a:pt x="16126" y="5401"/>
                  <a:pt x="16113" y="5413"/>
                  <a:pt x="16148" y="5432"/>
                </a:cubicBezTo>
                <a:cubicBezTo>
                  <a:pt x="16189" y="5378"/>
                  <a:pt x="16173" y="5379"/>
                  <a:pt x="16173" y="5457"/>
                </a:cubicBezTo>
              </a:path>
              <a:path w="4962" h="4392">
                <a:moveTo>
                  <a:pt x="16297" y="5482"/>
                </a:moveTo>
                <a:cubicBezTo>
                  <a:pt x="16297" y="5457"/>
                  <a:pt x="16297" y="5449"/>
                  <a:pt x="16272" y="545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54760" y="3875040"/>
            <a:ext cx="2214360" cy="2786040"/>
          </a:xfrm>
          <a:custGeom>
            <a:avLst/>
            <a:gdLst/>
            <a:ahLst/>
            <a:rect l="l" t="t" r="r" b="b"/>
            <a:pathLst>
              <a:path w="6153" h="7740">
                <a:moveTo>
                  <a:pt x="16321" y="11609"/>
                </a:moveTo>
                <a:cubicBezTo>
                  <a:pt x="16135" y="11596"/>
                  <a:pt x="15968" y="11668"/>
                  <a:pt x="15825" y="11807"/>
                </a:cubicBezTo>
                <a:cubicBezTo>
                  <a:pt x="15800" y="11840"/>
                  <a:pt x="15776" y="11873"/>
                  <a:pt x="15751" y="11906"/>
                </a:cubicBezTo>
                <a:cubicBezTo>
                  <a:pt x="15805" y="12069"/>
                  <a:pt x="15988" y="12147"/>
                  <a:pt x="16098" y="12303"/>
                </a:cubicBezTo>
                <a:cubicBezTo>
                  <a:pt x="16228" y="12488"/>
                  <a:pt x="16010" y="12534"/>
                  <a:pt x="15875" y="12551"/>
                </a:cubicBezTo>
                <a:cubicBezTo>
                  <a:pt x="15800" y="12328"/>
                  <a:pt x="15914" y="12207"/>
                  <a:pt x="16073" y="12030"/>
                </a:cubicBezTo>
                <a:cubicBezTo>
                  <a:pt x="16083" y="12019"/>
                  <a:pt x="16393" y="11744"/>
                  <a:pt x="16346" y="11708"/>
                </a:cubicBezTo>
                <a:cubicBezTo>
                  <a:pt x="16290" y="11708"/>
                  <a:pt x="16269" y="11713"/>
                  <a:pt x="16247" y="11757"/>
                </a:cubicBezTo>
              </a:path>
              <a:path w="6153" h="7740">
                <a:moveTo>
                  <a:pt x="16545" y="12328"/>
                </a:moveTo>
                <a:cubicBezTo>
                  <a:pt x="16537" y="12386"/>
                  <a:pt x="16519" y="12390"/>
                  <a:pt x="16545" y="12402"/>
                </a:cubicBezTo>
              </a:path>
              <a:path w="6153" h="7740">
                <a:moveTo>
                  <a:pt x="17165" y="11881"/>
                </a:moveTo>
                <a:cubicBezTo>
                  <a:pt x="17223" y="11825"/>
                  <a:pt x="17309" y="11769"/>
                  <a:pt x="17388" y="11832"/>
                </a:cubicBezTo>
                <a:cubicBezTo>
                  <a:pt x="17537" y="11950"/>
                  <a:pt x="17452" y="12214"/>
                  <a:pt x="17338" y="12328"/>
                </a:cubicBezTo>
                <a:cubicBezTo>
                  <a:pt x="17225" y="12441"/>
                  <a:pt x="17157" y="12422"/>
                  <a:pt x="17041" y="12378"/>
                </a:cubicBezTo>
                <a:cubicBezTo>
                  <a:pt x="17089" y="12243"/>
                  <a:pt x="17145" y="12144"/>
                  <a:pt x="17314" y="12204"/>
                </a:cubicBezTo>
                <a:cubicBezTo>
                  <a:pt x="17356" y="12219"/>
                  <a:pt x="17492" y="12352"/>
                  <a:pt x="17487" y="12402"/>
                </a:cubicBezTo>
                <a:cubicBezTo>
                  <a:pt x="17479" y="12410"/>
                  <a:pt x="17470" y="12419"/>
                  <a:pt x="17462" y="12427"/>
                </a:cubicBezTo>
              </a:path>
              <a:path w="6153" h="7740">
                <a:moveTo>
                  <a:pt x="17810" y="11857"/>
                </a:moveTo>
                <a:cubicBezTo>
                  <a:pt x="17810" y="12018"/>
                  <a:pt x="17799" y="12169"/>
                  <a:pt x="17785" y="12328"/>
                </a:cubicBezTo>
                <a:cubicBezTo>
                  <a:pt x="17781" y="12377"/>
                  <a:pt x="17785" y="12427"/>
                  <a:pt x="17785" y="12378"/>
                </a:cubicBezTo>
              </a:path>
              <a:path w="6153" h="7740">
                <a:moveTo>
                  <a:pt x="18182" y="11857"/>
                </a:moveTo>
                <a:cubicBezTo>
                  <a:pt x="18202" y="11957"/>
                  <a:pt x="18215" y="12022"/>
                  <a:pt x="18182" y="12129"/>
                </a:cubicBezTo>
                <a:cubicBezTo>
                  <a:pt x="18158" y="12177"/>
                  <a:pt x="18150" y="12192"/>
                  <a:pt x="18157" y="12229"/>
                </a:cubicBezTo>
                <a:cubicBezTo>
                  <a:pt x="18293" y="12229"/>
                  <a:pt x="18374" y="12179"/>
                  <a:pt x="18504" y="12154"/>
                </a:cubicBezTo>
                <a:cubicBezTo>
                  <a:pt x="18546" y="12154"/>
                  <a:pt x="18554" y="12154"/>
                  <a:pt x="18579" y="12154"/>
                </a:cubicBezTo>
              </a:path>
              <a:path w="6153" h="7740">
                <a:moveTo>
                  <a:pt x="18604" y="11609"/>
                </a:moveTo>
                <a:cubicBezTo>
                  <a:pt x="18514" y="11785"/>
                  <a:pt x="18496" y="12007"/>
                  <a:pt x="18455" y="12204"/>
                </a:cubicBezTo>
                <a:cubicBezTo>
                  <a:pt x="18432" y="12316"/>
                  <a:pt x="18431" y="12347"/>
                  <a:pt x="18380" y="12402"/>
                </a:cubicBezTo>
              </a:path>
              <a:path w="6153" h="7740">
                <a:moveTo>
                  <a:pt x="15329" y="12725"/>
                </a:moveTo>
                <a:cubicBezTo>
                  <a:pt x="15373" y="12621"/>
                  <a:pt x="15410" y="12559"/>
                  <a:pt x="15429" y="12427"/>
                </a:cubicBezTo>
                <a:cubicBezTo>
                  <a:pt x="15467" y="12163"/>
                  <a:pt x="15464" y="11895"/>
                  <a:pt x="15429" y="11633"/>
                </a:cubicBezTo>
                <a:cubicBezTo>
                  <a:pt x="15429" y="11625"/>
                  <a:pt x="15429" y="11617"/>
                  <a:pt x="15429" y="11609"/>
                </a:cubicBezTo>
                <a:cubicBezTo>
                  <a:pt x="15818" y="11609"/>
                  <a:pt x="16207" y="11564"/>
                  <a:pt x="16594" y="11584"/>
                </a:cubicBezTo>
                <a:cubicBezTo>
                  <a:pt x="16958" y="11603"/>
                  <a:pt x="17323" y="11590"/>
                  <a:pt x="17686" y="11609"/>
                </a:cubicBezTo>
                <a:cubicBezTo>
                  <a:pt x="18009" y="11626"/>
                  <a:pt x="18329" y="11654"/>
                  <a:pt x="18653" y="11658"/>
                </a:cubicBezTo>
                <a:cubicBezTo>
                  <a:pt x="19027" y="11662"/>
                  <a:pt x="19397" y="11667"/>
                  <a:pt x="19769" y="11683"/>
                </a:cubicBezTo>
                <a:cubicBezTo>
                  <a:pt x="19901" y="11689"/>
                  <a:pt x="20049" y="11692"/>
                  <a:pt x="20166" y="11708"/>
                </a:cubicBezTo>
                <a:cubicBezTo>
                  <a:pt x="20174" y="11708"/>
                  <a:pt x="20183" y="11708"/>
                  <a:pt x="20191" y="11708"/>
                </a:cubicBezTo>
              </a:path>
              <a:path w="6153" h="7740">
                <a:moveTo>
                  <a:pt x="14213" y="12030"/>
                </a:moveTo>
                <a:cubicBezTo>
                  <a:pt x="14213" y="11933"/>
                  <a:pt x="14161" y="12159"/>
                  <a:pt x="14139" y="12254"/>
                </a:cubicBezTo>
                <a:cubicBezTo>
                  <a:pt x="14124" y="12319"/>
                  <a:pt x="14074" y="12655"/>
                  <a:pt x="14039" y="12551"/>
                </a:cubicBezTo>
              </a:path>
              <a:path w="6153" h="7740">
                <a:moveTo>
                  <a:pt x="14932" y="11832"/>
                </a:moveTo>
                <a:cubicBezTo>
                  <a:pt x="14846" y="11870"/>
                  <a:pt x="14733" y="11928"/>
                  <a:pt x="14635" y="11906"/>
                </a:cubicBezTo>
                <a:cubicBezTo>
                  <a:pt x="14573" y="11892"/>
                  <a:pt x="14550" y="11997"/>
                  <a:pt x="14536" y="12080"/>
                </a:cubicBezTo>
                <a:cubicBezTo>
                  <a:pt x="14536" y="12121"/>
                  <a:pt x="14536" y="12129"/>
                  <a:pt x="14536" y="12154"/>
                </a:cubicBezTo>
                <a:cubicBezTo>
                  <a:pt x="14636" y="12134"/>
                  <a:pt x="14697" y="12108"/>
                  <a:pt x="14808" y="12105"/>
                </a:cubicBezTo>
                <a:cubicBezTo>
                  <a:pt x="14940" y="12102"/>
                  <a:pt x="15047" y="12156"/>
                  <a:pt x="14982" y="12303"/>
                </a:cubicBezTo>
                <a:cubicBezTo>
                  <a:pt x="14920" y="12441"/>
                  <a:pt x="14763" y="12462"/>
                  <a:pt x="14635" y="12427"/>
                </a:cubicBezTo>
                <a:cubicBezTo>
                  <a:pt x="14584" y="12413"/>
                  <a:pt x="14585" y="12402"/>
                  <a:pt x="14536" y="12402"/>
                </a:cubicBezTo>
              </a:path>
              <a:path w="6153" h="7740">
                <a:moveTo>
                  <a:pt x="16073" y="10964"/>
                </a:moveTo>
                <a:cubicBezTo>
                  <a:pt x="16028" y="10964"/>
                  <a:pt x="15981" y="10949"/>
                  <a:pt x="15949" y="10988"/>
                </a:cubicBezTo>
                <a:cubicBezTo>
                  <a:pt x="15871" y="11082"/>
                  <a:pt x="15850" y="11218"/>
                  <a:pt x="15875" y="11336"/>
                </a:cubicBezTo>
                <a:cubicBezTo>
                  <a:pt x="15906" y="11483"/>
                  <a:pt x="16029" y="11448"/>
                  <a:pt x="16123" y="11410"/>
                </a:cubicBezTo>
                <a:cubicBezTo>
                  <a:pt x="16215" y="11373"/>
                  <a:pt x="16281" y="11206"/>
                  <a:pt x="16297" y="11112"/>
                </a:cubicBezTo>
                <a:cubicBezTo>
                  <a:pt x="16312" y="11021"/>
                  <a:pt x="16281" y="10957"/>
                  <a:pt x="16197" y="10939"/>
                </a:cubicBezTo>
                <a:cubicBezTo>
                  <a:pt x="16146" y="10928"/>
                  <a:pt x="16088" y="10894"/>
                  <a:pt x="16073" y="10939"/>
                </a:cubicBezTo>
              </a:path>
              <a:path w="6153" h="7740">
                <a:moveTo>
                  <a:pt x="15875" y="12824"/>
                </a:moveTo>
                <a:cubicBezTo>
                  <a:pt x="15926" y="12807"/>
                  <a:pt x="15857" y="12856"/>
                  <a:pt x="15825" y="12948"/>
                </a:cubicBezTo>
                <a:cubicBezTo>
                  <a:pt x="15804" y="13013"/>
                  <a:pt x="15796" y="13029"/>
                  <a:pt x="15801" y="13072"/>
                </a:cubicBezTo>
                <a:cubicBezTo>
                  <a:pt x="15927" y="13093"/>
                  <a:pt x="16025" y="13074"/>
                  <a:pt x="16098" y="12948"/>
                </a:cubicBezTo>
                <a:cubicBezTo>
                  <a:pt x="16121" y="12881"/>
                  <a:pt x="16132" y="12863"/>
                  <a:pt x="16098" y="12824"/>
                </a:cubicBezTo>
                <a:cubicBezTo>
                  <a:pt x="16015" y="12796"/>
                  <a:pt x="15951" y="12786"/>
                  <a:pt x="15875" y="12824"/>
                </a:cubicBezTo>
              </a:path>
              <a:path w="6153" h="7740">
                <a:moveTo>
                  <a:pt x="15453" y="13221"/>
                </a:moveTo>
                <a:cubicBezTo>
                  <a:pt x="15613" y="13221"/>
                  <a:pt x="15767" y="13196"/>
                  <a:pt x="15925" y="13171"/>
                </a:cubicBezTo>
                <a:cubicBezTo>
                  <a:pt x="16067" y="13149"/>
                  <a:pt x="16202" y="13122"/>
                  <a:pt x="16346" y="13122"/>
                </a:cubicBezTo>
                <a:cubicBezTo>
                  <a:pt x="16354" y="13122"/>
                  <a:pt x="16363" y="13122"/>
                  <a:pt x="16371" y="13122"/>
                </a:cubicBezTo>
              </a:path>
              <a:path w="6153" h="7740">
                <a:moveTo>
                  <a:pt x="16024" y="13395"/>
                </a:moveTo>
                <a:cubicBezTo>
                  <a:pt x="16032" y="13395"/>
                  <a:pt x="16041" y="13395"/>
                  <a:pt x="16049" y="13395"/>
                </a:cubicBezTo>
                <a:cubicBezTo>
                  <a:pt x="16029" y="13335"/>
                  <a:pt x="15942" y="13409"/>
                  <a:pt x="15900" y="13444"/>
                </a:cubicBezTo>
                <a:cubicBezTo>
                  <a:pt x="15834" y="13510"/>
                  <a:pt x="15817" y="13527"/>
                  <a:pt x="15776" y="13568"/>
                </a:cubicBezTo>
                <a:cubicBezTo>
                  <a:pt x="15858" y="13637"/>
                  <a:pt x="15944" y="13653"/>
                  <a:pt x="16024" y="13717"/>
                </a:cubicBezTo>
                <a:cubicBezTo>
                  <a:pt x="16087" y="13768"/>
                  <a:pt x="15985" y="13794"/>
                  <a:pt x="15949" y="13816"/>
                </a:cubicBezTo>
                <a:cubicBezTo>
                  <a:pt x="15916" y="13747"/>
                  <a:pt x="15919" y="13662"/>
                  <a:pt x="15974" y="13593"/>
                </a:cubicBezTo>
                <a:cubicBezTo>
                  <a:pt x="16029" y="13524"/>
                  <a:pt x="16161" y="13453"/>
                  <a:pt x="16197" y="13370"/>
                </a:cubicBezTo>
                <a:cubicBezTo>
                  <a:pt x="16214" y="13331"/>
                  <a:pt x="16167" y="13345"/>
                  <a:pt x="16148" y="13345"/>
                </a:cubicBezTo>
              </a:path>
              <a:path w="6153" h="7740">
                <a:moveTo>
                  <a:pt x="17115" y="12502"/>
                </a:moveTo>
                <a:cubicBezTo>
                  <a:pt x="17115" y="12654"/>
                  <a:pt x="17099" y="12798"/>
                  <a:pt x="17090" y="12948"/>
                </a:cubicBezTo>
                <a:cubicBezTo>
                  <a:pt x="17086" y="13013"/>
                  <a:pt x="17090" y="13081"/>
                  <a:pt x="17090" y="13146"/>
                </a:cubicBezTo>
              </a:path>
              <a:path w="6153" h="7740">
                <a:moveTo>
                  <a:pt x="16942" y="13444"/>
                </a:moveTo>
                <a:cubicBezTo>
                  <a:pt x="16877" y="13487"/>
                  <a:pt x="16939" y="13430"/>
                  <a:pt x="16966" y="13419"/>
                </a:cubicBezTo>
                <a:cubicBezTo>
                  <a:pt x="17059" y="13380"/>
                  <a:pt x="17100" y="13473"/>
                  <a:pt x="17090" y="13568"/>
                </a:cubicBezTo>
                <a:cubicBezTo>
                  <a:pt x="17080" y="13667"/>
                  <a:pt x="16945" y="13791"/>
                  <a:pt x="16842" y="13791"/>
                </a:cubicBezTo>
                <a:cubicBezTo>
                  <a:pt x="16785" y="13772"/>
                  <a:pt x="16778" y="13764"/>
                  <a:pt x="16743" y="13767"/>
                </a:cubicBezTo>
                <a:cubicBezTo>
                  <a:pt x="16762" y="13691"/>
                  <a:pt x="16865" y="13665"/>
                  <a:pt x="16942" y="13667"/>
                </a:cubicBezTo>
                <a:cubicBezTo>
                  <a:pt x="16987" y="13668"/>
                  <a:pt x="17104" y="13720"/>
                  <a:pt x="17115" y="13742"/>
                </a:cubicBezTo>
                <a:cubicBezTo>
                  <a:pt x="17115" y="13767"/>
                  <a:pt x="17115" y="13775"/>
                  <a:pt x="17140" y="13767"/>
                </a:cubicBezTo>
              </a:path>
              <a:path w="6153" h="7740">
                <a:moveTo>
                  <a:pt x="17289" y="10964"/>
                </a:moveTo>
                <a:cubicBezTo>
                  <a:pt x="17202" y="11006"/>
                  <a:pt x="17139" y="11032"/>
                  <a:pt x="17041" y="11038"/>
                </a:cubicBezTo>
                <a:cubicBezTo>
                  <a:pt x="16993" y="11041"/>
                  <a:pt x="17005" y="11097"/>
                  <a:pt x="16991" y="11137"/>
                </a:cubicBezTo>
                <a:cubicBezTo>
                  <a:pt x="16971" y="11178"/>
                  <a:pt x="16962" y="11184"/>
                  <a:pt x="16966" y="11212"/>
                </a:cubicBezTo>
                <a:cubicBezTo>
                  <a:pt x="17041" y="11187"/>
                  <a:pt x="17147" y="11101"/>
                  <a:pt x="17239" y="11137"/>
                </a:cubicBezTo>
                <a:cubicBezTo>
                  <a:pt x="17349" y="11180"/>
                  <a:pt x="17326" y="11345"/>
                  <a:pt x="17264" y="11410"/>
                </a:cubicBezTo>
                <a:cubicBezTo>
                  <a:pt x="17187" y="11490"/>
                  <a:pt x="17013" y="11520"/>
                  <a:pt x="16917" y="11460"/>
                </a:cubicBezTo>
                <a:cubicBezTo>
                  <a:pt x="16917" y="11452"/>
                  <a:pt x="16917" y="11443"/>
                  <a:pt x="16917" y="11435"/>
                </a:cubicBezTo>
              </a:path>
              <a:path w="6153" h="7740">
                <a:moveTo>
                  <a:pt x="15776" y="14064"/>
                </a:moveTo>
                <a:cubicBezTo>
                  <a:pt x="15708" y="14030"/>
                  <a:pt x="15892" y="14016"/>
                  <a:pt x="15925" y="14015"/>
                </a:cubicBezTo>
                <a:cubicBezTo>
                  <a:pt x="16007" y="14012"/>
                  <a:pt x="16113" y="13995"/>
                  <a:pt x="16173" y="14015"/>
                </a:cubicBezTo>
                <a:cubicBezTo>
                  <a:pt x="16126" y="14109"/>
                  <a:pt x="16030" y="14278"/>
                  <a:pt x="16049" y="14387"/>
                </a:cubicBezTo>
                <a:cubicBezTo>
                  <a:pt x="16057" y="14395"/>
                  <a:pt x="16065" y="14404"/>
                  <a:pt x="16073" y="14412"/>
                </a:cubicBezTo>
              </a:path>
              <a:path w="6153" h="7740">
                <a:moveTo>
                  <a:pt x="17314" y="13990"/>
                </a:moveTo>
                <a:cubicBezTo>
                  <a:pt x="17299" y="13944"/>
                  <a:pt x="17223" y="13942"/>
                  <a:pt x="17165" y="13940"/>
                </a:cubicBezTo>
                <a:cubicBezTo>
                  <a:pt x="17082" y="13937"/>
                  <a:pt x="16996" y="13918"/>
                  <a:pt x="16942" y="13990"/>
                </a:cubicBezTo>
                <a:cubicBezTo>
                  <a:pt x="16910" y="14033"/>
                  <a:pt x="16900" y="14089"/>
                  <a:pt x="16892" y="14139"/>
                </a:cubicBezTo>
                <a:cubicBezTo>
                  <a:pt x="17001" y="14121"/>
                  <a:pt x="17074" y="14050"/>
                  <a:pt x="17190" y="14064"/>
                </a:cubicBezTo>
                <a:cubicBezTo>
                  <a:pt x="17206" y="14072"/>
                  <a:pt x="17223" y="14081"/>
                  <a:pt x="17239" y="14089"/>
                </a:cubicBezTo>
                <a:cubicBezTo>
                  <a:pt x="17261" y="14189"/>
                  <a:pt x="17231" y="14270"/>
                  <a:pt x="17115" y="14312"/>
                </a:cubicBezTo>
                <a:cubicBezTo>
                  <a:pt x="16999" y="14335"/>
                  <a:pt x="16966" y="14346"/>
                  <a:pt x="16892" y="14312"/>
                </a:cubicBezTo>
              </a:path>
              <a:path w="6153" h="7740">
                <a:moveTo>
                  <a:pt x="15776" y="14436"/>
                </a:moveTo>
                <a:cubicBezTo>
                  <a:pt x="15923" y="14422"/>
                  <a:pt x="16073" y="14393"/>
                  <a:pt x="16222" y="14387"/>
                </a:cubicBezTo>
                <a:cubicBezTo>
                  <a:pt x="16520" y="14374"/>
                  <a:pt x="16816" y="14362"/>
                  <a:pt x="17115" y="14362"/>
                </a:cubicBezTo>
                <a:cubicBezTo>
                  <a:pt x="17214" y="14362"/>
                  <a:pt x="17314" y="14362"/>
                  <a:pt x="17413" y="14362"/>
                </a:cubicBezTo>
              </a:path>
              <a:path w="6153" h="7740">
                <a:moveTo>
                  <a:pt x="16942" y="14536"/>
                </a:moveTo>
                <a:cubicBezTo>
                  <a:pt x="17021" y="14543"/>
                  <a:pt x="17084" y="14560"/>
                  <a:pt x="17165" y="14560"/>
                </a:cubicBezTo>
                <a:cubicBezTo>
                  <a:pt x="17190" y="14560"/>
                  <a:pt x="17198" y="14560"/>
                  <a:pt x="17214" y="14560"/>
                </a:cubicBezTo>
                <a:cubicBezTo>
                  <a:pt x="17214" y="14647"/>
                  <a:pt x="17190" y="14724"/>
                  <a:pt x="17165" y="14808"/>
                </a:cubicBezTo>
                <a:cubicBezTo>
                  <a:pt x="17146" y="14872"/>
                  <a:pt x="17115" y="14895"/>
                  <a:pt x="17115" y="14957"/>
                </a:cubicBezTo>
              </a:path>
              <a:path w="6153" h="7740">
                <a:moveTo>
                  <a:pt x="17785" y="12774"/>
                </a:moveTo>
                <a:cubicBezTo>
                  <a:pt x="17785" y="12766"/>
                  <a:pt x="17785" y="12758"/>
                  <a:pt x="17785" y="12750"/>
                </a:cubicBezTo>
                <a:cubicBezTo>
                  <a:pt x="17803" y="12786"/>
                  <a:pt x="17793" y="12921"/>
                  <a:pt x="17785" y="12998"/>
                </a:cubicBezTo>
                <a:cubicBezTo>
                  <a:pt x="17761" y="13222"/>
                  <a:pt x="17760" y="13441"/>
                  <a:pt x="17760" y="13667"/>
                </a:cubicBezTo>
                <a:cubicBezTo>
                  <a:pt x="17760" y="13837"/>
                  <a:pt x="17758" y="13998"/>
                  <a:pt x="17735" y="14163"/>
                </a:cubicBezTo>
                <a:cubicBezTo>
                  <a:pt x="17734" y="14167"/>
                  <a:pt x="17725" y="14351"/>
                  <a:pt x="17711" y="14263"/>
                </a:cubicBezTo>
                <a:cubicBezTo>
                  <a:pt x="17711" y="14255"/>
                  <a:pt x="17711" y="14246"/>
                  <a:pt x="17711" y="14238"/>
                </a:cubicBezTo>
              </a:path>
              <a:path w="6153" h="7740">
                <a:moveTo>
                  <a:pt x="17587" y="14560"/>
                </a:moveTo>
                <a:cubicBezTo>
                  <a:pt x="17594" y="14540"/>
                  <a:pt x="17611" y="14493"/>
                  <a:pt x="17611" y="14536"/>
                </a:cubicBezTo>
                <a:cubicBezTo>
                  <a:pt x="17611" y="14643"/>
                  <a:pt x="17611" y="14751"/>
                  <a:pt x="17611" y="14858"/>
                </a:cubicBezTo>
              </a:path>
              <a:path w="6153" h="7740">
                <a:moveTo>
                  <a:pt x="17636" y="10988"/>
                </a:moveTo>
                <a:cubicBezTo>
                  <a:pt x="17636" y="10964"/>
                  <a:pt x="17636" y="10955"/>
                  <a:pt x="17636" y="10939"/>
                </a:cubicBezTo>
                <a:cubicBezTo>
                  <a:pt x="17636" y="10989"/>
                  <a:pt x="17611" y="11082"/>
                  <a:pt x="17587" y="11112"/>
                </a:cubicBezTo>
                <a:cubicBezTo>
                  <a:pt x="17564" y="11141"/>
                  <a:pt x="17678" y="11127"/>
                  <a:pt x="17735" y="11112"/>
                </a:cubicBezTo>
                <a:cubicBezTo>
                  <a:pt x="17788" y="11098"/>
                  <a:pt x="17833" y="11073"/>
                  <a:pt x="17884" y="11063"/>
                </a:cubicBezTo>
              </a:path>
              <a:path w="6153" h="7740">
                <a:moveTo>
                  <a:pt x="17959" y="10765"/>
                </a:moveTo>
                <a:cubicBezTo>
                  <a:pt x="17923" y="10943"/>
                  <a:pt x="17919" y="11129"/>
                  <a:pt x="17884" y="11311"/>
                </a:cubicBezTo>
                <a:cubicBezTo>
                  <a:pt x="17861" y="11401"/>
                  <a:pt x="17853" y="11425"/>
                  <a:pt x="17859" y="11485"/>
                </a:cubicBezTo>
              </a:path>
              <a:path w="6153" h="7740">
                <a:moveTo>
                  <a:pt x="17115" y="15081"/>
                </a:moveTo>
                <a:cubicBezTo>
                  <a:pt x="17115" y="15011"/>
                  <a:pt x="17068" y="15260"/>
                  <a:pt x="17066" y="15280"/>
                </a:cubicBezTo>
                <a:cubicBezTo>
                  <a:pt x="17053" y="15381"/>
                  <a:pt x="17110" y="15437"/>
                  <a:pt x="17214" y="15429"/>
                </a:cubicBezTo>
                <a:cubicBezTo>
                  <a:pt x="17297" y="15423"/>
                  <a:pt x="17409" y="15351"/>
                  <a:pt x="17388" y="15255"/>
                </a:cubicBezTo>
                <a:cubicBezTo>
                  <a:pt x="17380" y="15238"/>
                  <a:pt x="17371" y="15222"/>
                  <a:pt x="17363" y="15205"/>
                </a:cubicBezTo>
                <a:cubicBezTo>
                  <a:pt x="17302" y="15205"/>
                  <a:pt x="17245" y="15249"/>
                  <a:pt x="17214" y="15304"/>
                </a:cubicBezTo>
                <a:cubicBezTo>
                  <a:pt x="17151" y="15417"/>
                  <a:pt x="17190" y="15443"/>
                  <a:pt x="17289" y="15453"/>
                </a:cubicBezTo>
              </a:path>
              <a:path w="6153" h="7740">
                <a:moveTo>
                  <a:pt x="17661" y="15081"/>
                </a:moveTo>
                <a:cubicBezTo>
                  <a:pt x="17536" y="15150"/>
                  <a:pt x="17518" y="15206"/>
                  <a:pt x="17512" y="15354"/>
                </a:cubicBezTo>
                <a:cubicBezTo>
                  <a:pt x="17508" y="15447"/>
                  <a:pt x="17609" y="15495"/>
                  <a:pt x="17686" y="15429"/>
                </a:cubicBezTo>
                <a:cubicBezTo>
                  <a:pt x="17775" y="15352"/>
                  <a:pt x="17806" y="15245"/>
                  <a:pt x="17785" y="15131"/>
                </a:cubicBezTo>
                <a:cubicBezTo>
                  <a:pt x="17762" y="15004"/>
                  <a:pt x="17656" y="15057"/>
                  <a:pt x="17562" y="15081"/>
                </a:cubicBezTo>
              </a:path>
              <a:path w="6153" h="7740">
                <a:moveTo>
                  <a:pt x="16892" y="15503"/>
                </a:moveTo>
                <a:cubicBezTo>
                  <a:pt x="16997" y="15503"/>
                  <a:pt x="17114" y="15532"/>
                  <a:pt x="17214" y="15528"/>
                </a:cubicBezTo>
                <a:cubicBezTo>
                  <a:pt x="17379" y="15521"/>
                  <a:pt x="17523" y="15521"/>
                  <a:pt x="17686" y="15528"/>
                </a:cubicBezTo>
                <a:cubicBezTo>
                  <a:pt x="17719" y="15529"/>
                  <a:pt x="17752" y="15528"/>
                  <a:pt x="17785" y="15528"/>
                </a:cubicBezTo>
              </a:path>
              <a:path w="6153" h="7740">
                <a:moveTo>
                  <a:pt x="17289" y="15627"/>
                </a:moveTo>
                <a:cubicBezTo>
                  <a:pt x="17289" y="15756"/>
                  <a:pt x="17282" y="15873"/>
                  <a:pt x="17264" y="15999"/>
                </a:cubicBezTo>
                <a:cubicBezTo>
                  <a:pt x="17264" y="16032"/>
                  <a:pt x="17264" y="16048"/>
                  <a:pt x="17264" y="16073"/>
                </a:cubicBezTo>
              </a:path>
              <a:path w="6153" h="7740">
                <a:moveTo>
                  <a:pt x="17636" y="15776"/>
                </a:moveTo>
                <a:cubicBezTo>
                  <a:pt x="17636" y="15864"/>
                  <a:pt x="17615" y="15937"/>
                  <a:pt x="17611" y="16024"/>
                </a:cubicBezTo>
                <a:cubicBezTo>
                  <a:pt x="17609" y="16076"/>
                  <a:pt x="17625" y="16081"/>
                  <a:pt x="17636" y="16123"/>
                </a:cubicBezTo>
              </a:path>
              <a:path w="6153" h="7740">
                <a:moveTo>
                  <a:pt x="18430" y="12353"/>
                </a:moveTo>
                <a:cubicBezTo>
                  <a:pt x="18430" y="12474"/>
                  <a:pt x="18413" y="12582"/>
                  <a:pt x="18405" y="12700"/>
                </a:cubicBezTo>
                <a:cubicBezTo>
                  <a:pt x="18390" y="12908"/>
                  <a:pt x="18344" y="13112"/>
                  <a:pt x="18331" y="13320"/>
                </a:cubicBezTo>
                <a:cubicBezTo>
                  <a:pt x="18317" y="13550"/>
                  <a:pt x="18285" y="13742"/>
                  <a:pt x="18231" y="13965"/>
                </a:cubicBezTo>
                <a:cubicBezTo>
                  <a:pt x="18200" y="14092"/>
                  <a:pt x="18185" y="14233"/>
                  <a:pt x="18182" y="14362"/>
                </a:cubicBezTo>
                <a:cubicBezTo>
                  <a:pt x="18180" y="14454"/>
                  <a:pt x="18175" y="14522"/>
                  <a:pt x="18157" y="14610"/>
                </a:cubicBezTo>
                <a:cubicBezTo>
                  <a:pt x="18140" y="14694"/>
                  <a:pt x="18110" y="14772"/>
                  <a:pt x="18107" y="14858"/>
                </a:cubicBezTo>
                <a:cubicBezTo>
                  <a:pt x="18101" y="15017"/>
                  <a:pt x="18098" y="15176"/>
                  <a:pt x="18083" y="15329"/>
                </a:cubicBezTo>
                <a:cubicBezTo>
                  <a:pt x="18077" y="15386"/>
                  <a:pt x="18083" y="15446"/>
                  <a:pt x="18083" y="15503"/>
                </a:cubicBezTo>
              </a:path>
              <a:path w="6153" h="7740">
                <a:moveTo>
                  <a:pt x="18008" y="15850"/>
                </a:moveTo>
                <a:cubicBezTo>
                  <a:pt x="18021" y="15800"/>
                  <a:pt x="18038" y="15755"/>
                  <a:pt x="18058" y="15701"/>
                </a:cubicBezTo>
                <a:cubicBezTo>
                  <a:pt x="18058" y="15796"/>
                  <a:pt x="18016" y="15850"/>
                  <a:pt x="18008" y="15949"/>
                </a:cubicBezTo>
                <a:cubicBezTo>
                  <a:pt x="18008" y="15966"/>
                  <a:pt x="18008" y="15982"/>
                  <a:pt x="18008" y="15999"/>
                </a:cubicBezTo>
                <a:cubicBezTo>
                  <a:pt x="18092" y="15999"/>
                  <a:pt x="18150" y="15964"/>
                  <a:pt x="18231" y="15949"/>
                </a:cubicBezTo>
                <a:cubicBezTo>
                  <a:pt x="18273" y="15949"/>
                  <a:pt x="18281" y="15949"/>
                  <a:pt x="18306" y="15949"/>
                </a:cubicBezTo>
              </a:path>
              <a:path w="6153" h="7740">
                <a:moveTo>
                  <a:pt x="18331" y="15602"/>
                </a:moveTo>
                <a:cubicBezTo>
                  <a:pt x="18307" y="15697"/>
                  <a:pt x="18306" y="15788"/>
                  <a:pt x="18306" y="15900"/>
                </a:cubicBezTo>
                <a:cubicBezTo>
                  <a:pt x="18306" y="15983"/>
                  <a:pt x="18306" y="16065"/>
                  <a:pt x="18306" y="16148"/>
                </a:cubicBezTo>
              </a:path>
              <a:path w="6153" h="7740">
                <a:moveTo>
                  <a:pt x="18331" y="10964"/>
                </a:moveTo>
                <a:cubicBezTo>
                  <a:pt x="18331" y="10939"/>
                  <a:pt x="18331" y="10931"/>
                  <a:pt x="18331" y="10914"/>
                </a:cubicBezTo>
                <a:cubicBezTo>
                  <a:pt x="18395" y="10914"/>
                  <a:pt x="18390" y="10936"/>
                  <a:pt x="18405" y="11013"/>
                </a:cubicBezTo>
                <a:cubicBezTo>
                  <a:pt x="18405" y="11021"/>
                  <a:pt x="18405" y="11030"/>
                  <a:pt x="18405" y="11038"/>
                </a:cubicBezTo>
                <a:cubicBezTo>
                  <a:pt x="18419" y="10984"/>
                  <a:pt x="18481" y="10924"/>
                  <a:pt x="18529" y="10889"/>
                </a:cubicBezTo>
                <a:cubicBezTo>
                  <a:pt x="18586" y="10848"/>
                  <a:pt x="18636" y="10840"/>
                  <a:pt x="18703" y="10840"/>
                </a:cubicBezTo>
                <a:cubicBezTo>
                  <a:pt x="18728" y="10840"/>
                  <a:pt x="18736" y="10840"/>
                  <a:pt x="18752" y="10840"/>
                </a:cubicBezTo>
                <a:cubicBezTo>
                  <a:pt x="18740" y="11008"/>
                  <a:pt x="18665" y="11127"/>
                  <a:pt x="18628" y="11286"/>
                </a:cubicBezTo>
                <a:cubicBezTo>
                  <a:pt x="18628" y="11347"/>
                  <a:pt x="18638" y="11363"/>
                  <a:pt x="18604" y="11385"/>
                </a:cubicBezTo>
              </a:path>
              <a:path w="6153" h="7740">
                <a:moveTo>
                  <a:pt x="17388" y="16247"/>
                </a:moveTo>
                <a:cubicBezTo>
                  <a:pt x="17388" y="16172"/>
                  <a:pt x="17363" y="16468"/>
                  <a:pt x="17363" y="16470"/>
                </a:cubicBezTo>
                <a:cubicBezTo>
                  <a:pt x="17358" y="16534"/>
                  <a:pt x="17346" y="16603"/>
                  <a:pt x="17363" y="16619"/>
                </a:cubicBezTo>
              </a:path>
              <a:path w="6153" h="7740">
                <a:moveTo>
                  <a:pt x="17810" y="16321"/>
                </a:moveTo>
                <a:cubicBezTo>
                  <a:pt x="17755" y="16420"/>
                  <a:pt x="17717" y="16480"/>
                  <a:pt x="17711" y="16594"/>
                </a:cubicBezTo>
                <a:cubicBezTo>
                  <a:pt x="17711" y="16602"/>
                  <a:pt x="17711" y="16611"/>
                  <a:pt x="17711" y="16619"/>
                </a:cubicBezTo>
                <a:cubicBezTo>
                  <a:pt x="17810" y="16619"/>
                  <a:pt x="17900" y="16618"/>
                  <a:pt x="17959" y="16520"/>
                </a:cubicBezTo>
                <a:cubicBezTo>
                  <a:pt x="18013" y="16431"/>
                  <a:pt x="17935" y="16344"/>
                  <a:pt x="17859" y="16297"/>
                </a:cubicBezTo>
                <a:cubicBezTo>
                  <a:pt x="17851" y="16297"/>
                  <a:pt x="17843" y="16297"/>
                  <a:pt x="17835" y="16297"/>
                </a:cubicBezTo>
              </a:path>
              <a:path w="6153" h="7740">
                <a:moveTo>
                  <a:pt x="18355" y="16123"/>
                </a:moveTo>
                <a:cubicBezTo>
                  <a:pt x="18321" y="16132"/>
                  <a:pt x="18201" y="16135"/>
                  <a:pt x="18182" y="16173"/>
                </a:cubicBezTo>
                <a:cubicBezTo>
                  <a:pt x="18158" y="16221"/>
                  <a:pt x="18157" y="16291"/>
                  <a:pt x="18157" y="16346"/>
                </a:cubicBezTo>
                <a:cubicBezTo>
                  <a:pt x="18236" y="16346"/>
                  <a:pt x="18278" y="16308"/>
                  <a:pt x="18355" y="16297"/>
                </a:cubicBezTo>
                <a:cubicBezTo>
                  <a:pt x="18439" y="16284"/>
                  <a:pt x="18494" y="16331"/>
                  <a:pt x="18479" y="16421"/>
                </a:cubicBezTo>
                <a:cubicBezTo>
                  <a:pt x="18460" y="16536"/>
                  <a:pt x="18353" y="16581"/>
                  <a:pt x="18256" y="16545"/>
                </a:cubicBezTo>
                <a:cubicBezTo>
                  <a:pt x="18240" y="16537"/>
                  <a:pt x="18223" y="16528"/>
                  <a:pt x="18207" y="16520"/>
                </a:cubicBezTo>
              </a:path>
              <a:path w="6153" h="7740">
                <a:moveTo>
                  <a:pt x="17090" y="16768"/>
                </a:moveTo>
                <a:cubicBezTo>
                  <a:pt x="17184" y="16768"/>
                  <a:pt x="17272" y="16749"/>
                  <a:pt x="17363" y="16743"/>
                </a:cubicBezTo>
                <a:cubicBezTo>
                  <a:pt x="17619" y="16726"/>
                  <a:pt x="17877" y="16714"/>
                  <a:pt x="18132" y="16694"/>
                </a:cubicBezTo>
                <a:cubicBezTo>
                  <a:pt x="18345" y="16678"/>
                  <a:pt x="18543" y="16650"/>
                  <a:pt x="18752" y="16619"/>
                </a:cubicBezTo>
                <a:cubicBezTo>
                  <a:pt x="18777" y="16619"/>
                  <a:pt x="18785" y="16619"/>
                  <a:pt x="18802" y="16619"/>
                </a:cubicBezTo>
              </a:path>
              <a:path w="6153" h="7740">
                <a:moveTo>
                  <a:pt x="18479" y="16867"/>
                </a:moveTo>
                <a:cubicBezTo>
                  <a:pt x="18501" y="16860"/>
                  <a:pt x="18534" y="16798"/>
                  <a:pt x="18504" y="16768"/>
                </a:cubicBezTo>
                <a:cubicBezTo>
                  <a:pt x="18457" y="16720"/>
                  <a:pt x="18397" y="16739"/>
                  <a:pt x="18355" y="16768"/>
                </a:cubicBezTo>
                <a:cubicBezTo>
                  <a:pt x="18259" y="16834"/>
                  <a:pt x="18230" y="16915"/>
                  <a:pt x="18256" y="17016"/>
                </a:cubicBezTo>
                <a:cubicBezTo>
                  <a:pt x="18384" y="17016"/>
                  <a:pt x="18429" y="17006"/>
                  <a:pt x="18504" y="16892"/>
                </a:cubicBezTo>
                <a:cubicBezTo>
                  <a:pt x="18526" y="16848"/>
                  <a:pt x="18529" y="16837"/>
                  <a:pt x="18554" y="16818"/>
                </a:cubicBezTo>
                <a:cubicBezTo>
                  <a:pt x="18554" y="16914"/>
                  <a:pt x="18544" y="17021"/>
                  <a:pt x="18529" y="17115"/>
                </a:cubicBezTo>
                <a:cubicBezTo>
                  <a:pt x="18508" y="17197"/>
                  <a:pt x="18500" y="17213"/>
                  <a:pt x="18504" y="17264"/>
                </a:cubicBezTo>
              </a:path>
              <a:path w="6153" h="7740">
                <a:moveTo>
                  <a:pt x="19224" y="11956"/>
                </a:moveTo>
                <a:cubicBezTo>
                  <a:pt x="19233" y="11917"/>
                  <a:pt x="19248" y="11901"/>
                  <a:pt x="19248" y="11857"/>
                </a:cubicBezTo>
                <a:cubicBezTo>
                  <a:pt x="19140" y="11938"/>
                  <a:pt x="19114" y="12040"/>
                  <a:pt x="19100" y="12179"/>
                </a:cubicBezTo>
                <a:cubicBezTo>
                  <a:pt x="19091" y="12265"/>
                  <a:pt x="19128" y="12471"/>
                  <a:pt x="19273" y="12402"/>
                </a:cubicBezTo>
                <a:cubicBezTo>
                  <a:pt x="19391" y="12346"/>
                  <a:pt x="19514" y="12135"/>
                  <a:pt x="19496" y="12005"/>
                </a:cubicBezTo>
                <a:cubicBezTo>
                  <a:pt x="19480" y="11892"/>
                  <a:pt x="19332" y="11798"/>
                  <a:pt x="19224" y="11832"/>
                </a:cubicBezTo>
                <a:cubicBezTo>
                  <a:pt x="19149" y="11881"/>
                  <a:pt x="19124" y="11897"/>
                  <a:pt x="19100" y="11956"/>
                </a:cubicBezTo>
              </a:path>
              <a:path w="6153" h="7740">
                <a:moveTo>
                  <a:pt x="19174" y="12477"/>
                </a:moveTo>
                <a:cubicBezTo>
                  <a:pt x="19193" y="12514"/>
                  <a:pt x="19232" y="12543"/>
                  <a:pt x="19224" y="12626"/>
                </a:cubicBezTo>
                <a:cubicBezTo>
                  <a:pt x="19214" y="12726"/>
                  <a:pt x="19185" y="12825"/>
                  <a:pt x="19174" y="12923"/>
                </a:cubicBezTo>
                <a:cubicBezTo>
                  <a:pt x="19160" y="13047"/>
                  <a:pt x="19155" y="13173"/>
                  <a:pt x="19124" y="13295"/>
                </a:cubicBezTo>
                <a:cubicBezTo>
                  <a:pt x="19093" y="13418"/>
                  <a:pt x="19082" y="13541"/>
                  <a:pt x="19050" y="13667"/>
                </a:cubicBezTo>
                <a:cubicBezTo>
                  <a:pt x="19010" y="13825"/>
                  <a:pt x="18980" y="13982"/>
                  <a:pt x="18951" y="14139"/>
                </a:cubicBezTo>
                <a:cubicBezTo>
                  <a:pt x="18930" y="14256"/>
                  <a:pt x="18900" y="14371"/>
                  <a:pt x="18876" y="14486"/>
                </a:cubicBezTo>
                <a:cubicBezTo>
                  <a:pt x="18860" y="14560"/>
                  <a:pt x="18854" y="14633"/>
                  <a:pt x="18852" y="14709"/>
                </a:cubicBezTo>
                <a:cubicBezTo>
                  <a:pt x="18847" y="14877"/>
                  <a:pt x="18859" y="15041"/>
                  <a:pt x="18876" y="15205"/>
                </a:cubicBezTo>
                <a:cubicBezTo>
                  <a:pt x="18889" y="15334"/>
                  <a:pt x="18890" y="15478"/>
                  <a:pt x="18901" y="15602"/>
                </a:cubicBezTo>
                <a:cubicBezTo>
                  <a:pt x="18912" y="15733"/>
                  <a:pt x="18915" y="15874"/>
                  <a:pt x="18926" y="15999"/>
                </a:cubicBezTo>
                <a:cubicBezTo>
                  <a:pt x="18931" y="16062"/>
                  <a:pt x="18904" y="16072"/>
                  <a:pt x="18901" y="16123"/>
                </a:cubicBezTo>
                <a:cubicBezTo>
                  <a:pt x="18895" y="16213"/>
                  <a:pt x="18901" y="16305"/>
                  <a:pt x="18901" y="16396"/>
                </a:cubicBezTo>
              </a:path>
              <a:path w="6153" h="7740">
                <a:moveTo>
                  <a:pt x="18852" y="16818"/>
                </a:moveTo>
                <a:cubicBezTo>
                  <a:pt x="18852" y="16753"/>
                  <a:pt x="18805" y="16945"/>
                  <a:pt x="18802" y="16966"/>
                </a:cubicBezTo>
                <a:cubicBezTo>
                  <a:pt x="18790" y="17049"/>
                  <a:pt x="18783" y="17181"/>
                  <a:pt x="18876" y="17214"/>
                </a:cubicBezTo>
                <a:cubicBezTo>
                  <a:pt x="18976" y="17249"/>
                  <a:pt x="19029" y="17187"/>
                  <a:pt x="19100" y="17140"/>
                </a:cubicBezTo>
                <a:cubicBezTo>
                  <a:pt x="19193" y="17077"/>
                  <a:pt x="19174" y="16998"/>
                  <a:pt x="19174" y="16892"/>
                </a:cubicBezTo>
                <a:cubicBezTo>
                  <a:pt x="19174" y="16875"/>
                  <a:pt x="19174" y="16859"/>
                  <a:pt x="19174" y="16842"/>
                </a:cubicBezTo>
                <a:cubicBezTo>
                  <a:pt x="19099" y="16818"/>
                  <a:pt x="19024" y="16797"/>
                  <a:pt x="18951" y="16842"/>
                </a:cubicBezTo>
                <a:cubicBezTo>
                  <a:pt x="18916" y="16864"/>
                  <a:pt x="18911" y="16862"/>
                  <a:pt x="18901" y="16892"/>
                </a:cubicBezTo>
              </a:path>
              <a:path w="6153" h="7740">
                <a:moveTo>
                  <a:pt x="19248" y="10864"/>
                </a:moveTo>
                <a:cubicBezTo>
                  <a:pt x="19179" y="10900"/>
                  <a:pt x="19143" y="11016"/>
                  <a:pt x="19100" y="11088"/>
                </a:cubicBezTo>
                <a:cubicBezTo>
                  <a:pt x="19046" y="11177"/>
                  <a:pt x="19025" y="11302"/>
                  <a:pt x="19050" y="11410"/>
                </a:cubicBezTo>
                <a:cubicBezTo>
                  <a:pt x="19072" y="11504"/>
                  <a:pt x="19146" y="11530"/>
                  <a:pt x="19224" y="11534"/>
                </a:cubicBezTo>
                <a:cubicBezTo>
                  <a:pt x="19303" y="11538"/>
                  <a:pt x="19418" y="11492"/>
                  <a:pt x="19472" y="11435"/>
                </a:cubicBezTo>
                <a:cubicBezTo>
                  <a:pt x="19533" y="11370"/>
                  <a:pt x="19571" y="11298"/>
                  <a:pt x="19571" y="11212"/>
                </a:cubicBezTo>
                <a:cubicBezTo>
                  <a:pt x="19571" y="11125"/>
                  <a:pt x="19463" y="11172"/>
                  <a:pt x="19422" y="11187"/>
                </a:cubicBezTo>
                <a:cubicBezTo>
                  <a:pt x="19341" y="11216"/>
                  <a:pt x="19244" y="11280"/>
                  <a:pt x="19248" y="11385"/>
                </a:cubicBezTo>
                <a:cubicBezTo>
                  <a:pt x="19270" y="11450"/>
                  <a:pt x="19278" y="11465"/>
                  <a:pt x="19273" y="11509"/>
                </a:cubicBezTo>
              </a:path>
              <a:path w="6153" h="7740">
                <a:moveTo>
                  <a:pt x="18529" y="17512"/>
                </a:moveTo>
                <a:cubicBezTo>
                  <a:pt x="18589" y="17512"/>
                  <a:pt x="18584" y="17486"/>
                  <a:pt x="18529" y="17462"/>
                </a:cubicBezTo>
                <a:cubicBezTo>
                  <a:pt x="18498" y="17448"/>
                  <a:pt x="18445" y="17422"/>
                  <a:pt x="18405" y="17438"/>
                </a:cubicBezTo>
                <a:cubicBezTo>
                  <a:pt x="18362" y="17455"/>
                  <a:pt x="18360" y="17551"/>
                  <a:pt x="18355" y="17587"/>
                </a:cubicBezTo>
                <a:cubicBezTo>
                  <a:pt x="18409" y="17618"/>
                  <a:pt x="18499" y="17610"/>
                  <a:pt x="18554" y="17562"/>
                </a:cubicBezTo>
                <a:cubicBezTo>
                  <a:pt x="18576" y="17543"/>
                  <a:pt x="18597" y="17488"/>
                  <a:pt x="18604" y="17462"/>
                </a:cubicBezTo>
                <a:cubicBezTo>
                  <a:pt x="18642" y="17515"/>
                  <a:pt x="18617" y="17621"/>
                  <a:pt x="18604" y="17686"/>
                </a:cubicBezTo>
                <a:cubicBezTo>
                  <a:pt x="18590" y="17755"/>
                  <a:pt x="18552" y="17768"/>
                  <a:pt x="18604" y="17785"/>
                </a:cubicBezTo>
              </a:path>
              <a:path w="6153" h="7740">
                <a:moveTo>
                  <a:pt x="19025" y="17413"/>
                </a:moveTo>
                <a:cubicBezTo>
                  <a:pt x="18962" y="17444"/>
                  <a:pt x="18928" y="17538"/>
                  <a:pt x="18901" y="17611"/>
                </a:cubicBezTo>
                <a:cubicBezTo>
                  <a:pt x="18868" y="17701"/>
                  <a:pt x="18876" y="17810"/>
                  <a:pt x="19000" y="17785"/>
                </a:cubicBezTo>
                <a:cubicBezTo>
                  <a:pt x="19117" y="17761"/>
                  <a:pt x="19138" y="17579"/>
                  <a:pt x="19124" y="17487"/>
                </a:cubicBezTo>
                <a:cubicBezTo>
                  <a:pt x="19111" y="17398"/>
                  <a:pt x="19053" y="17425"/>
                  <a:pt x="19000" y="17438"/>
                </a:cubicBezTo>
              </a:path>
              <a:path w="6153" h="7740">
                <a:moveTo>
                  <a:pt x="18033" y="17661"/>
                </a:moveTo>
                <a:cubicBezTo>
                  <a:pt x="18124" y="17661"/>
                  <a:pt x="18215" y="17661"/>
                  <a:pt x="18306" y="17661"/>
                </a:cubicBezTo>
              </a:path>
              <a:path w="6153" h="7740">
                <a:moveTo>
                  <a:pt x="18207" y="17983"/>
                </a:moveTo>
                <a:cubicBezTo>
                  <a:pt x="18342" y="18024"/>
                  <a:pt x="18443" y="17977"/>
                  <a:pt x="18579" y="17983"/>
                </a:cubicBezTo>
                <a:cubicBezTo>
                  <a:pt x="18727" y="17990"/>
                  <a:pt x="18849" y="17965"/>
                  <a:pt x="19000" y="17959"/>
                </a:cubicBezTo>
                <a:cubicBezTo>
                  <a:pt x="19042" y="17959"/>
                  <a:pt x="19050" y="17959"/>
                  <a:pt x="19075" y="17959"/>
                </a:cubicBezTo>
              </a:path>
              <a:path w="6153" h="7740">
                <a:moveTo>
                  <a:pt x="19025" y="18132"/>
                </a:moveTo>
                <a:cubicBezTo>
                  <a:pt x="19011" y="18188"/>
                  <a:pt x="18969" y="18220"/>
                  <a:pt x="18951" y="18281"/>
                </a:cubicBezTo>
                <a:cubicBezTo>
                  <a:pt x="18928" y="18358"/>
                  <a:pt x="18933" y="18383"/>
                  <a:pt x="18951" y="18455"/>
                </a:cubicBezTo>
                <a:cubicBezTo>
                  <a:pt x="18958" y="18483"/>
                  <a:pt x="19005" y="18519"/>
                  <a:pt x="19050" y="18504"/>
                </a:cubicBezTo>
                <a:cubicBezTo>
                  <a:pt x="19101" y="18487"/>
                  <a:pt x="19125" y="18436"/>
                  <a:pt x="19149" y="18405"/>
                </a:cubicBezTo>
                <a:cubicBezTo>
                  <a:pt x="19206" y="18332"/>
                  <a:pt x="19199" y="18367"/>
                  <a:pt x="19199" y="18281"/>
                </a:cubicBezTo>
                <a:cubicBezTo>
                  <a:pt x="19143" y="18281"/>
                  <a:pt x="19120" y="18243"/>
                  <a:pt x="19075" y="18231"/>
                </a:cubicBezTo>
                <a:cubicBezTo>
                  <a:pt x="19017" y="18215"/>
                  <a:pt x="19017" y="18255"/>
                  <a:pt x="19000" y="18207"/>
                </a:cubicBezTo>
              </a:path>
              <a:path w="6153" h="7740">
                <a:moveTo>
                  <a:pt x="16694" y="11460"/>
                </a:moveTo>
                <a:cubicBezTo>
                  <a:pt x="16685" y="11433"/>
                  <a:pt x="16676" y="11414"/>
                  <a:pt x="16644" y="11410"/>
                </a:cubicBezTo>
                <a:cubicBezTo>
                  <a:pt x="16607" y="11405"/>
                  <a:pt x="16534" y="11438"/>
                  <a:pt x="16570" y="11485"/>
                </a:cubicBezTo>
                <a:cubicBezTo>
                  <a:pt x="16578" y="11485"/>
                  <a:pt x="16586" y="11485"/>
                  <a:pt x="16594" y="11485"/>
                </a:cubicBezTo>
                <a:cubicBezTo>
                  <a:pt x="16600" y="11455"/>
                  <a:pt x="16644" y="11370"/>
                  <a:pt x="16619" y="11336"/>
                </a:cubicBezTo>
                <a:cubicBezTo>
                  <a:pt x="16567" y="11264"/>
                  <a:pt x="16525" y="11392"/>
                  <a:pt x="16520" y="11410"/>
                </a:cubicBezTo>
                <a:cubicBezTo>
                  <a:pt x="16493" y="11510"/>
                  <a:pt x="16484" y="11509"/>
                  <a:pt x="16570" y="11485"/>
                </a:cubicBezTo>
                <a:cubicBezTo>
                  <a:pt x="16576" y="11456"/>
                  <a:pt x="16624" y="11377"/>
                  <a:pt x="16570" y="11361"/>
                </a:cubicBezTo>
                <a:cubicBezTo>
                  <a:pt x="16499" y="11340"/>
                  <a:pt x="16419" y="11419"/>
                  <a:pt x="16470" y="11485"/>
                </a:cubicBezTo>
                <a:cubicBezTo>
                  <a:pt x="16520" y="11509"/>
                  <a:pt x="16536" y="11517"/>
                  <a:pt x="16545" y="11460"/>
                </a:cubicBezTo>
                <a:cubicBezTo>
                  <a:pt x="16585" y="11367"/>
                  <a:pt x="16530" y="11383"/>
                  <a:pt x="16520" y="11410"/>
                </a:cubicBezTo>
                <a:cubicBezTo>
                  <a:pt x="16502" y="11459"/>
                  <a:pt x="16517" y="11476"/>
                  <a:pt x="16545" y="11485"/>
                </a:cubicBezTo>
                <a:cubicBezTo>
                  <a:pt x="16569" y="11449"/>
                  <a:pt x="16606" y="11331"/>
                  <a:pt x="16570" y="11410"/>
                </a:cubicBezTo>
                <a:cubicBezTo>
                  <a:pt x="16555" y="11442"/>
                  <a:pt x="16510" y="11533"/>
                  <a:pt x="16545" y="11460"/>
                </a:cubicBezTo>
                <a:cubicBezTo>
                  <a:pt x="16628" y="11284"/>
                  <a:pt x="16602" y="11366"/>
                  <a:pt x="16570" y="1141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3080" y="6323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704" y="17562"/>
                </a:moveTo>
                <a:lnTo>
                  <a:pt x="2704" y="17562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2920" y="666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46" y="18504"/>
                </a:moveTo>
                <a:lnTo>
                  <a:pt x="3646" y="18504"/>
                </a:lnTo>
                <a:lnTo>
                  <a:pt x="3646" y="18504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Review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How do you divide a decimal by a whole number?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Let’s practice: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3809880"/>
          <a:ext cx="12700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1270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775040" y="3657600"/>
          <a:ext cx="14227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5040" y="3657600"/>
                    <a:ext cx="142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Objective:  Students will divide by a decimal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teps: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* Move the decimal over in the divisor so that it is a whole number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* Move to the right the same number of spaces in the dividend.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Ex1.)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14600" y="5029200"/>
          <a:ext cx="977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5029200"/>
                    <a:ext cx="977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71800" y="5545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5755" y="15429"/>
                </a:moveTo>
                <a:cubicBezTo>
                  <a:pt x="5755" y="15421"/>
                  <a:pt x="5755" y="15412"/>
                  <a:pt x="5755" y="1540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59000" y="571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76" y="15875"/>
                </a:moveTo>
                <a:lnTo>
                  <a:pt x="6276" y="15875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90880" y="5892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10" y="16371"/>
                </a:moveTo>
                <a:lnTo>
                  <a:pt x="8310" y="16371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54760" y="4670280"/>
            <a:ext cx="1963440" cy="723960"/>
          </a:xfrm>
          <a:custGeom>
            <a:avLst/>
            <a:gdLst/>
            <a:ahLst/>
            <a:rect l="l" t="t" r="r" b="b"/>
            <a:pathLst>
              <a:path w="5458" h="2010">
                <a:moveTo>
                  <a:pt x="14039" y="14039"/>
                </a:moveTo>
                <a:cubicBezTo>
                  <a:pt x="14072" y="14169"/>
                  <a:pt x="14098" y="14286"/>
                  <a:pt x="14089" y="14436"/>
                </a:cubicBezTo>
                <a:cubicBezTo>
                  <a:pt x="14088" y="14457"/>
                  <a:pt x="14039" y="14954"/>
                  <a:pt x="14039" y="14808"/>
                </a:cubicBezTo>
              </a:path>
              <a:path w="5458" h="2010">
                <a:moveTo>
                  <a:pt x="14511" y="14039"/>
                </a:moveTo>
                <a:cubicBezTo>
                  <a:pt x="14678" y="14004"/>
                  <a:pt x="14806" y="13996"/>
                  <a:pt x="14932" y="14139"/>
                </a:cubicBezTo>
                <a:cubicBezTo>
                  <a:pt x="15075" y="14302"/>
                  <a:pt x="14966" y="14530"/>
                  <a:pt x="14833" y="14660"/>
                </a:cubicBezTo>
                <a:cubicBezTo>
                  <a:pt x="14690" y="14800"/>
                  <a:pt x="14619" y="14781"/>
                  <a:pt x="14461" y="14734"/>
                </a:cubicBezTo>
                <a:cubicBezTo>
                  <a:pt x="14450" y="14587"/>
                  <a:pt x="14517" y="14484"/>
                  <a:pt x="14684" y="14436"/>
                </a:cubicBezTo>
                <a:cubicBezTo>
                  <a:pt x="14834" y="14393"/>
                  <a:pt x="14932" y="14488"/>
                  <a:pt x="14982" y="14610"/>
                </a:cubicBezTo>
                <a:cubicBezTo>
                  <a:pt x="15008" y="14674"/>
                  <a:pt x="15007" y="14717"/>
                  <a:pt x="15007" y="14784"/>
                </a:cubicBezTo>
              </a:path>
              <a:path w="5458" h="2010">
                <a:moveTo>
                  <a:pt x="15304" y="14982"/>
                </a:moveTo>
                <a:cubicBezTo>
                  <a:pt x="15356" y="14902"/>
                  <a:pt x="15368" y="14971"/>
                  <a:pt x="15379" y="14784"/>
                </a:cubicBezTo>
                <a:cubicBezTo>
                  <a:pt x="15391" y="14567"/>
                  <a:pt x="15373" y="14264"/>
                  <a:pt x="15280" y="14064"/>
                </a:cubicBezTo>
                <a:cubicBezTo>
                  <a:pt x="15242" y="13982"/>
                  <a:pt x="15135" y="13855"/>
                  <a:pt x="15106" y="13791"/>
                </a:cubicBezTo>
                <a:cubicBezTo>
                  <a:pt x="15106" y="13783"/>
                  <a:pt x="15106" y="13775"/>
                  <a:pt x="15106" y="13767"/>
                </a:cubicBezTo>
                <a:cubicBezTo>
                  <a:pt x="15197" y="13751"/>
                  <a:pt x="15286" y="13734"/>
                  <a:pt x="15379" y="13717"/>
                </a:cubicBezTo>
                <a:cubicBezTo>
                  <a:pt x="15703" y="13658"/>
                  <a:pt x="16021" y="13572"/>
                  <a:pt x="16346" y="13519"/>
                </a:cubicBezTo>
                <a:cubicBezTo>
                  <a:pt x="16904" y="13429"/>
                  <a:pt x="17453" y="13304"/>
                  <a:pt x="18008" y="13196"/>
                </a:cubicBezTo>
                <a:cubicBezTo>
                  <a:pt x="18484" y="13104"/>
                  <a:pt x="18990" y="13003"/>
                  <a:pt x="19472" y="12973"/>
                </a:cubicBezTo>
                <a:cubicBezTo>
                  <a:pt x="19480" y="12973"/>
                  <a:pt x="19488" y="12973"/>
                  <a:pt x="19496" y="1297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4160880"/>
            <a:ext cx="1393920" cy="2313000"/>
          </a:xfrm>
          <a:custGeom>
            <a:avLst/>
            <a:gdLst/>
            <a:ahLst/>
            <a:rect l="l" t="t" r="r" b="b"/>
            <a:pathLst>
              <a:path w="3871" h="6425">
                <a:moveTo>
                  <a:pt x="15949" y="14039"/>
                </a:moveTo>
                <a:cubicBezTo>
                  <a:pt x="15949" y="13984"/>
                  <a:pt x="15912" y="14130"/>
                  <a:pt x="15900" y="14163"/>
                </a:cubicBezTo>
                <a:cubicBezTo>
                  <a:pt x="15867" y="14252"/>
                  <a:pt x="15808" y="14318"/>
                  <a:pt x="15801" y="14412"/>
                </a:cubicBezTo>
                <a:cubicBezTo>
                  <a:pt x="15796" y="14477"/>
                  <a:pt x="15811" y="14488"/>
                  <a:pt x="15850" y="14536"/>
                </a:cubicBezTo>
                <a:cubicBezTo>
                  <a:pt x="15897" y="14592"/>
                  <a:pt x="15981" y="14599"/>
                  <a:pt x="16049" y="14585"/>
                </a:cubicBezTo>
                <a:cubicBezTo>
                  <a:pt x="16141" y="14566"/>
                  <a:pt x="16279" y="14532"/>
                  <a:pt x="16346" y="14461"/>
                </a:cubicBezTo>
                <a:cubicBezTo>
                  <a:pt x="16398" y="14406"/>
                  <a:pt x="16375" y="14328"/>
                  <a:pt x="16321" y="14288"/>
                </a:cubicBezTo>
                <a:cubicBezTo>
                  <a:pt x="16267" y="14249"/>
                  <a:pt x="16180" y="14256"/>
                  <a:pt x="16123" y="14288"/>
                </a:cubicBezTo>
                <a:cubicBezTo>
                  <a:pt x="16067" y="14319"/>
                  <a:pt x="16032" y="14455"/>
                  <a:pt x="16024" y="14511"/>
                </a:cubicBezTo>
                <a:cubicBezTo>
                  <a:pt x="16014" y="14578"/>
                  <a:pt x="16017" y="14592"/>
                  <a:pt x="16049" y="14635"/>
                </a:cubicBezTo>
              </a:path>
              <a:path w="3871" h="6425">
                <a:moveTo>
                  <a:pt x="16520" y="14064"/>
                </a:moveTo>
                <a:cubicBezTo>
                  <a:pt x="16528" y="14056"/>
                  <a:pt x="16537" y="14047"/>
                  <a:pt x="16545" y="14039"/>
                </a:cubicBezTo>
                <a:cubicBezTo>
                  <a:pt x="16568" y="14098"/>
                  <a:pt x="16525" y="14182"/>
                  <a:pt x="16520" y="14263"/>
                </a:cubicBezTo>
                <a:cubicBezTo>
                  <a:pt x="16520" y="14271"/>
                  <a:pt x="16520" y="14280"/>
                  <a:pt x="16520" y="14288"/>
                </a:cubicBezTo>
                <a:cubicBezTo>
                  <a:pt x="16649" y="14288"/>
                  <a:pt x="16719" y="14222"/>
                  <a:pt x="16842" y="14188"/>
                </a:cubicBezTo>
                <a:cubicBezTo>
                  <a:pt x="16884" y="14188"/>
                  <a:pt x="16892" y="14188"/>
                  <a:pt x="16917" y="14188"/>
                </a:cubicBezTo>
              </a:path>
              <a:path w="3871" h="6425">
                <a:moveTo>
                  <a:pt x="16917" y="13866"/>
                </a:moveTo>
                <a:cubicBezTo>
                  <a:pt x="16917" y="13774"/>
                  <a:pt x="16903" y="13997"/>
                  <a:pt x="16892" y="14089"/>
                </a:cubicBezTo>
                <a:cubicBezTo>
                  <a:pt x="16871" y="14263"/>
                  <a:pt x="16832" y="14435"/>
                  <a:pt x="16818" y="14610"/>
                </a:cubicBezTo>
              </a:path>
              <a:path w="3871" h="6425">
                <a:moveTo>
                  <a:pt x="17338" y="14312"/>
                </a:moveTo>
                <a:cubicBezTo>
                  <a:pt x="17238" y="14325"/>
                  <a:pt x="17175" y="14369"/>
                  <a:pt x="17190" y="14486"/>
                </a:cubicBezTo>
                <a:cubicBezTo>
                  <a:pt x="17209" y="14633"/>
                  <a:pt x="17340" y="14465"/>
                  <a:pt x="17363" y="14436"/>
                </a:cubicBezTo>
                <a:cubicBezTo>
                  <a:pt x="17313" y="14412"/>
                  <a:pt x="17298" y="14403"/>
                  <a:pt x="17264" y="14436"/>
                </a:cubicBezTo>
              </a:path>
              <a:path w="3871" h="6425">
                <a:moveTo>
                  <a:pt x="18107" y="13891"/>
                </a:moveTo>
                <a:cubicBezTo>
                  <a:pt x="18003" y="13856"/>
                  <a:pt x="17898" y="13914"/>
                  <a:pt x="17810" y="13990"/>
                </a:cubicBezTo>
                <a:cubicBezTo>
                  <a:pt x="17742" y="14057"/>
                  <a:pt x="17717" y="14071"/>
                  <a:pt x="17735" y="14139"/>
                </a:cubicBezTo>
                <a:cubicBezTo>
                  <a:pt x="17869" y="14196"/>
                  <a:pt x="18084" y="14230"/>
                  <a:pt x="18182" y="14337"/>
                </a:cubicBezTo>
                <a:cubicBezTo>
                  <a:pt x="18190" y="14362"/>
                  <a:pt x="18199" y="14387"/>
                  <a:pt x="18207" y="14412"/>
                </a:cubicBezTo>
                <a:cubicBezTo>
                  <a:pt x="18130" y="14496"/>
                  <a:pt x="17975" y="14630"/>
                  <a:pt x="17859" y="14486"/>
                </a:cubicBezTo>
                <a:cubicBezTo>
                  <a:pt x="17762" y="14366"/>
                  <a:pt x="17991" y="14122"/>
                  <a:pt x="18058" y="14039"/>
                </a:cubicBezTo>
                <a:cubicBezTo>
                  <a:pt x="18088" y="14002"/>
                  <a:pt x="18195" y="13921"/>
                  <a:pt x="18132" y="13891"/>
                </a:cubicBezTo>
                <a:cubicBezTo>
                  <a:pt x="18124" y="13891"/>
                  <a:pt x="18115" y="13891"/>
                  <a:pt x="18107" y="13891"/>
                </a:cubicBezTo>
              </a:path>
              <a:path w="3871" h="6425">
                <a:moveTo>
                  <a:pt x="17289" y="13196"/>
                </a:moveTo>
                <a:cubicBezTo>
                  <a:pt x="17332" y="13138"/>
                  <a:pt x="17308" y="13151"/>
                  <a:pt x="17264" y="13122"/>
                </a:cubicBezTo>
                <a:cubicBezTo>
                  <a:pt x="17192" y="13074"/>
                  <a:pt x="17165" y="13084"/>
                  <a:pt x="17140" y="13171"/>
                </a:cubicBezTo>
                <a:cubicBezTo>
                  <a:pt x="17140" y="13179"/>
                  <a:pt x="17140" y="13188"/>
                  <a:pt x="17140" y="13196"/>
                </a:cubicBezTo>
                <a:cubicBezTo>
                  <a:pt x="17236" y="13196"/>
                  <a:pt x="17286" y="13207"/>
                  <a:pt x="17314" y="13097"/>
                </a:cubicBezTo>
                <a:cubicBezTo>
                  <a:pt x="17314" y="13080"/>
                  <a:pt x="17314" y="13064"/>
                  <a:pt x="17314" y="13047"/>
                </a:cubicBezTo>
                <a:cubicBezTo>
                  <a:pt x="17226" y="12994"/>
                  <a:pt x="17209" y="13014"/>
                  <a:pt x="17165" y="13097"/>
                </a:cubicBezTo>
                <a:cubicBezTo>
                  <a:pt x="17109" y="13203"/>
                  <a:pt x="17158" y="13231"/>
                  <a:pt x="17264" y="13196"/>
                </a:cubicBezTo>
                <a:cubicBezTo>
                  <a:pt x="17355" y="13166"/>
                  <a:pt x="17329" y="13115"/>
                  <a:pt x="17314" y="13047"/>
                </a:cubicBezTo>
                <a:cubicBezTo>
                  <a:pt x="17280" y="13068"/>
                  <a:pt x="17116" y="13172"/>
                  <a:pt x="17214" y="13221"/>
                </a:cubicBezTo>
                <a:cubicBezTo>
                  <a:pt x="17272" y="13250"/>
                  <a:pt x="17319" y="13164"/>
                  <a:pt x="17264" y="13146"/>
                </a:cubicBezTo>
              </a:path>
              <a:path w="3871" h="6425">
                <a:moveTo>
                  <a:pt x="16743" y="12526"/>
                </a:moveTo>
                <a:cubicBezTo>
                  <a:pt x="16805" y="12526"/>
                  <a:pt x="16624" y="12590"/>
                  <a:pt x="16594" y="12601"/>
                </a:cubicBezTo>
                <a:cubicBezTo>
                  <a:pt x="16537" y="12622"/>
                  <a:pt x="16400" y="12613"/>
                  <a:pt x="16396" y="12626"/>
                </a:cubicBezTo>
                <a:cubicBezTo>
                  <a:pt x="16369" y="12717"/>
                  <a:pt x="16371" y="12802"/>
                  <a:pt x="16371" y="12898"/>
                </a:cubicBezTo>
                <a:cubicBezTo>
                  <a:pt x="16371" y="12906"/>
                  <a:pt x="16371" y="12915"/>
                  <a:pt x="16371" y="12923"/>
                </a:cubicBezTo>
                <a:cubicBezTo>
                  <a:pt x="16462" y="12847"/>
                  <a:pt x="16544" y="12789"/>
                  <a:pt x="16669" y="12799"/>
                </a:cubicBezTo>
                <a:cubicBezTo>
                  <a:pt x="16839" y="12813"/>
                  <a:pt x="16880" y="12993"/>
                  <a:pt x="16793" y="13122"/>
                </a:cubicBezTo>
                <a:cubicBezTo>
                  <a:pt x="16676" y="13296"/>
                  <a:pt x="16546" y="13267"/>
                  <a:pt x="16371" y="13246"/>
                </a:cubicBezTo>
                <a:cubicBezTo>
                  <a:pt x="16329" y="13246"/>
                  <a:pt x="16313" y="13254"/>
                  <a:pt x="16321" y="13221"/>
                </a:cubicBezTo>
              </a:path>
              <a:path w="3871" h="6425">
                <a:moveTo>
                  <a:pt x="16123" y="14759"/>
                </a:moveTo>
                <a:cubicBezTo>
                  <a:pt x="16077" y="14897"/>
                  <a:pt x="16046" y="15005"/>
                  <a:pt x="16024" y="15156"/>
                </a:cubicBezTo>
                <a:cubicBezTo>
                  <a:pt x="16001" y="15268"/>
                  <a:pt x="15986" y="15299"/>
                  <a:pt x="16049" y="15354"/>
                </a:cubicBezTo>
                <a:cubicBezTo>
                  <a:pt x="16170" y="15335"/>
                  <a:pt x="16356" y="15280"/>
                  <a:pt x="16421" y="15156"/>
                </a:cubicBezTo>
                <a:cubicBezTo>
                  <a:pt x="16421" y="15080"/>
                  <a:pt x="16421" y="15054"/>
                  <a:pt x="16396" y="15007"/>
                </a:cubicBezTo>
                <a:cubicBezTo>
                  <a:pt x="16283" y="15026"/>
                  <a:pt x="16199" y="15112"/>
                  <a:pt x="16173" y="15230"/>
                </a:cubicBezTo>
                <a:cubicBezTo>
                  <a:pt x="16142" y="15370"/>
                  <a:pt x="16142" y="15454"/>
                  <a:pt x="16272" y="15429"/>
                </a:cubicBezTo>
              </a:path>
              <a:path w="3871" h="6425">
                <a:moveTo>
                  <a:pt x="16669" y="14883"/>
                </a:moveTo>
                <a:cubicBezTo>
                  <a:pt x="16535" y="14900"/>
                  <a:pt x="16511" y="15006"/>
                  <a:pt x="16470" y="15131"/>
                </a:cubicBezTo>
                <a:cubicBezTo>
                  <a:pt x="16448" y="15222"/>
                  <a:pt x="16437" y="15248"/>
                  <a:pt x="16470" y="15304"/>
                </a:cubicBezTo>
                <a:cubicBezTo>
                  <a:pt x="16606" y="15353"/>
                  <a:pt x="16782" y="15342"/>
                  <a:pt x="16842" y="15156"/>
                </a:cubicBezTo>
                <a:cubicBezTo>
                  <a:pt x="16911" y="14944"/>
                  <a:pt x="16713" y="14917"/>
                  <a:pt x="16570" y="14908"/>
                </a:cubicBezTo>
              </a:path>
              <a:path w="3871" h="6425">
                <a:moveTo>
                  <a:pt x="15925" y="15627"/>
                </a:moveTo>
                <a:cubicBezTo>
                  <a:pt x="16249" y="15558"/>
                  <a:pt x="16568" y="15474"/>
                  <a:pt x="16892" y="15404"/>
                </a:cubicBezTo>
                <a:cubicBezTo>
                  <a:pt x="17007" y="15385"/>
                  <a:pt x="17023" y="15376"/>
                  <a:pt x="17090" y="15379"/>
                </a:cubicBezTo>
              </a:path>
              <a:path w="3871" h="6425">
                <a:moveTo>
                  <a:pt x="15776" y="15230"/>
                </a:moveTo>
                <a:cubicBezTo>
                  <a:pt x="15776" y="15174"/>
                  <a:pt x="15782" y="15188"/>
                  <a:pt x="15825" y="15156"/>
                </a:cubicBezTo>
                <a:cubicBezTo>
                  <a:pt x="15825" y="15164"/>
                  <a:pt x="15825" y="15172"/>
                  <a:pt x="15825" y="15180"/>
                </a:cubicBezTo>
              </a:path>
              <a:path w="3871" h="6425">
                <a:moveTo>
                  <a:pt x="16743" y="15652"/>
                </a:moveTo>
                <a:cubicBezTo>
                  <a:pt x="16735" y="15644"/>
                  <a:pt x="16726" y="15635"/>
                  <a:pt x="16718" y="15627"/>
                </a:cubicBezTo>
                <a:cubicBezTo>
                  <a:pt x="16700" y="15671"/>
                  <a:pt x="16656" y="15874"/>
                  <a:pt x="16694" y="15925"/>
                </a:cubicBezTo>
                <a:cubicBezTo>
                  <a:pt x="16747" y="15995"/>
                  <a:pt x="16965" y="15916"/>
                  <a:pt x="17016" y="15875"/>
                </a:cubicBezTo>
                <a:cubicBezTo>
                  <a:pt x="17060" y="15810"/>
                  <a:pt x="17071" y="15796"/>
                  <a:pt x="17090" y="15751"/>
                </a:cubicBezTo>
              </a:path>
              <a:path w="3871" h="6425">
                <a:moveTo>
                  <a:pt x="17041" y="15627"/>
                </a:moveTo>
                <a:cubicBezTo>
                  <a:pt x="17041" y="15820"/>
                  <a:pt x="17040" y="16007"/>
                  <a:pt x="17066" y="16197"/>
                </a:cubicBezTo>
                <a:cubicBezTo>
                  <a:pt x="17066" y="16222"/>
                  <a:pt x="17066" y="16230"/>
                  <a:pt x="17066" y="16197"/>
                </a:cubicBezTo>
              </a:path>
              <a:path w="3871" h="6425">
                <a:moveTo>
                  <a:pt x="17859" y="14734"/>
                </a:moveTo>
                <a:cubicBezTo>
                  <a:pt x="17859" y="14642"/>
                  <a:pt x="17870" y="14866"/>
                  <a:pt x="17884" y="14957"/>
                </a:cubicBezTo>
                <a:cubicBezTo>
                  <a:pt x="17904" y="15082"/>
                  <a:pt x="17938" y="15206"/>
                  <a:pt x="17959" y="15329"/>
                </a:cubicBezTo>
              </a:path>
              <a:path w="3871" h="6425">
                <a:moveTo>
                  <a:pt x="17959" y="15701"/>
                </a:moveTo>
                <a:cubicBezTo>
                  <a:pt x="17939" y="15623"/>
                  <a:pt x="17863" y="15618"/>
                  <a:pt x="17785" y="15627"/>
                </a:cubicBezTo>
                <a:cubicBezTo>
                  <a:pt x="17693" y="15638"/>
                  <a:pt x="17492" y="15704"/>
                  <a:pt x="17462" y="15801"/>
                </a:cubicBezTo>
                <a:cubicBezTo>
                  <a:pt x="17397" y="16014"/>
                  <a:pt x="17744" y="16031"/>
                  <a:pt x="17859" y="16049"/>
                </a:cubicBezTo>
                <a:cubicBezTo>
                  <a:pt x="17999" y="16068"/>
                  <a:pt x="18024" y="16076"/>
                  <a:pt x="18107" y="16073"/>
                </a:cubicBezTo>
                <a:cubicBezTo>
                  <a:pt x="18139" y="16186"/>
                  <a:pt x="18026" y="16229"/>
                  <a:pt x="17909" y="16222"/>
                </a:cubicBezTo>
                <a:cubicBezTo>
                  <a:pt x="17770" y="16214"/>
                  <a:pt x="17679" y="16074"/>
                  <a:pt x="17735" y="15949"/>
                </a:cubicBezTo>
                <a:cubicBezTo>
                  <a:pt x="17748" y="15920"/>
                  <a:pt x="17866" y="15781"/>
                  <a:pt x="17859" y="15776"/>
                </a:cubicBezTo>
                <a:cubicBezTo>
                  <a:pt x="17851" y="15776"/>
                  <a:pt x="17843" y="15776"/>
                  <a:pt x="17835" y="15776"/>
                </a:cubicBezTo>
              </a:path>
              <a:path w="3871" h="6425">
                <a:moveTo>
                  <a:pt x="17760" y="12452"/>
                </a:moveTo>
                <a:cubicBezTo>
                  <a:pt x="17691" y="12475"/>
                  <a:pt x="17726" y="12609"/>
                  <a:pt x="17711" y="12675"/>
                </a:cubicBezTo>
                <a:cubicBezTo>
                  <a:pt x="17691" y="12716"/>
                  <a:pt x="17682" y="12722"/>
                  <a:pt x="17686" y="12750"/>
                </a:cubicBezTo>
                <a:cubicBezTo>
                  <a:pt x="17818" y="12740"/>
                  <a:pt x="17940" y="12714"/>
                  <a:pt x="18058" y="12650"/>
                </a:cubicBezTo>
                <a:cubicBezTo>
                  <a:pt x="18066" y="12642"/>
                  <a:pt x="18075" y="12634"/>
                  <a:pt x="18083" y="12626"/>
                </a:cubicBezTo>
              </a:path>
              <a:path w="3871" h="6425">
                <a:moveTo>
                  <a:pt x="18008" y="12204"/>
                </a:moveTo>
                <a:cubicBezTo>
                  <a:pt x="17949" y="12244"/>
                  <a:pt x="17976" y="12515"/>
                  <a:pt x="17983" y="12601"/>
                </a:cubicBezTo>
                <a:cubicBezTo>
                  <a:pt x="17994" y="12728"/>
                  <a:pt x="17983" y="12824"/>
                  <a:pt x="17983" y="12948"/>
                </a:cubicBezTo>
              </a:path>
              <a:path w="3871" h="6425">
                <a:moveTo>
                  <a:pt x="17090" y="16545"/>
                </a:moveTo>
                <a:cubicBezTo>
                  <a:pt x="17090" y="16470"/>
                  <a:pt x="17082" y="16645"/>
                  <a:pt x="17066" y="16718"/>
                </a:cubicBezTo>
                <a:cubicBezTo>
                  <a:pt x="17043" y="16809"/>
                  <a:pt x="17035" y="16832"/>
                  <a:pt x="17041" y="16892"/>
                </a:cubicBezTo>
                <a:cubicBezTo>
                  <a:pt x="17160" y="16862"/>
                  <a:pt x="17308" y="16813"/>
                  <a:pt x="17413" y="16743"/>
                </a:cubicBezTo>
                <a:cubicBezTo>
                  <a:pt x="17452" y="16704"/>
                  <a:pt x="17468" y="16703"/>
                  <a:pt x="17462" y="16669"/>
                </a:cubicBezTo>
              </a:path>
              <a:path w="3871" h="6425">
                <a:moveTo>
                  <a:pt x="17338" y="16396"/>
                </a:moveTo>
                <a:cubicBezTo>
                  <a:pt x="17347" y="16600"/>
                  <a:pt x="17361" y="16815"/>
                  <a:pt x="17388" y="17016"/>
                </a:cubicBezTo>
                <a:cubicBezTo>
                  <a:pt x="17408" y="17093"/>
                  <a:pt x="17432" y="17111"/>
                  <a:pt x="17388" y="17140"/>
                </a:cubicBezTo>
              </a:path>
              <a:path w="3871" h="6425">
                <a:moveTo>
                  <a:pt x="17909" y="16371"/>
                </a:moveTo>
                <a:cubicBezTo>
                  <a:pt x="17788" y="16415"/>
                  <a:pt x="17740" y="16458"/>
                  <a:pt x="17711" y="16594"/>
                </a:cubicBezTo>
                <a:cubicBezTo>
                  <a:pt x="17688" y="16703"/>
                  <a:pt x="17894" y="16711"/>
                  <a:pt x="17959" y="16743"/>
                </a:cubicBezTo>
                <a:cubicBezTo>
                  <a:pt x="17984" y="16760"/>
                  <a:pt x="18008" y="16776"/>
                  <a:pt x="18033" y="16793"/>
                </a:cubicBezTo>
                <a:cubicBezTo>
                  <a:pt x="17993" y="16872"/>
                  <a:pt x="17943" y="16969"/>
                  <a:pt x="17835" y="16892"/>
                </a:cubicBezTo>
                <a:cubicBezTo>
                  <a:pt x="17726" y="16814"/>
                  <a:pt x="17922" y="16589"/>
                  <a:pt x="17959" y="16520"/>
                </a:cubicBezTo>
                <a:cubicBezTo>
                  <a:pt x="17978" y="16479"/>
                  <a:pt x="17997" y="16463"/>
                  <a:pt x="17959" y="16470"/>
                </a:cubicBezTo>
              </a:path>
              <a:path w="3871" h="6425">
                <a:moveTo>
                  <a:pt x="16694" y="16818"/>
                </a:moveTo>
                <a:cubicBezTo>
                  <a:pt x="16801" y="16791"/>
                  <a:pt x="16842" y="16781"/>
                  <a:pt x="16917" y="16768"/>
                </a:cubicBezTo>
              </a:path>
              <a:path w="3871" h="6425">
                <a:moveTo>
                  <a:pt x="16446" y="17289"/>
                </a:moveTo>
                <a:cubicBezTo>
                  <a:pt x="16775" y="17227"/>
                  <a:pt x="17104" y="17151"/>
                  <a:pt x="17438" y="17115"/>
                </a:cubicBezTo>
                <a:cubicBezTo>
                  <a:pt x="17725" y="17084"/>
                  <a:pt x="18022" y="17070"/>
                  <a:pt x="18306" y="17115"/>
                </a:cubicBezTo>
              </a:path>
              <a:path w="3871" h="6425">
                <a:moveTo>
                  <a:pt x="18033" y="17388"/>
                </a:moveTo>
                <a:cubicBezTo>
                  <a:pt x="17916" y="17458"/>
                  <a:pt x="17889" y="17603"/>
                  <a:pt x="17859" y="17735"/>
                </a:cubicBezTo>
                <a:cubicBezTo>
                  <a:pt x="17831" y="17860"/>
                  <a:pt x="17815" y="17902"/>
                  <a:pt x="17884" y="17983"/>
                </a:cubicBezTo>
                <a:cubicBezTo>
                  <a:pt x="18051" y="17947"/>
                  <a:pt x="18191" y="17872"/>
                  <a:pt x="18231" y="17686"/>
                </a:cubicBezTo>
                <a:cubicBezTo>
                  <a:pt x="18259" y="17557"/>
                  <a:pt x="18170" y="17432"/>
                  <a:pt x="18033" y="17438"/>
                </a:cubicBezTo>
                <a:cubicBezTo>
                  <a:pt x="18016" y="17446"/>
                  <a:pt x="18000" y="17454"/>
                  <a:pt x="17983" y="17462"/>
                </a:cubicBezTo>
              </a:path>
              <a:path w="3871" h="6425">
                <a:moveTo>
                  <a:pt x="15652" y="13146"/>
                </a:moveTo>
                <a:cubicBezTo>
                  <a:pt x="15725" y="13190"/>
                  <a:pt x="15757" y="13220"/>
                  <a:pt x="15825" y="13271"/>
                </a:cubicBezTo>
                <a:cubicBezTo>
                  <a:pt x="16072" y="13455"/>
                  <a:pt x="16252" y="13569"/>
                  <a:pt x="16570" y="13593"/>
                </a:cubicBezTo>
                <a:cubicBezTo>
                  <a:pt x="16936" y="13620"/>
                  <a:pt x="17385" y="13512"/>
                  <a:pt x="17735" y="13419"/>
                </a:cubicBezTo>
                <a:cubicBezTo>
                  <a:pt x="18108" y="13320"/>
                  <a:pt x="18488" y="13188"/>
                  <a:pt x="18777" y="12923"/>
                </a:cubicBezTo>
                <a:cubicBezTo>
                  <a:pt x="18963" y="12752"/>
                  <a:pt x="19085" y="12484"/>
                  <a:pt x="19050" y="12229"/>
                </a:cubicBezTo>
                <a:cubicBezTo>
                  <a:pt x="19009" y="11928"/>
                  <a:pt x="18710" y="11797"/>
                  <a:pt x="18455" y="11708"/>
                </a:cubicBezTo>
                <a:cubicBezTo>
                  <a:pt x="18051" y="11568"/>
                  <a:pt x="17536" y="11511"/>
                  <a:pt x="17115" y="11584"/>
                </a:cubicBezTo>
                <a:cubicBezTo>
                  <a:pt x="16552" y="11681"/>
                  <a:pt x="16135" y="11973"/>
                  <a:pt x="15751" y="12378"/>
                </a:cubicBezTo>
                <a:cubicBezTo>
                  <a:pt x="15506" y="12637"/>
                  <a:pt x="15034" y="13131"/>
                  <a:pt x="15205" y="13543"/>
                </a:cubicBezTo>
                <a:cubicBezTo>
                  <a:pt x="15318" y="13814"/>
                  <a:pt x="15688" y="13874"/>
                  <a:pt x="15925" y="1396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70120" y="5276880"/>
            <a:ext cx="22392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7491" y="14734"/>
                </a:moveTo>
                <a:cubicBezTo>
                  <a:pt x="7466" y="14734"/>
                  <a:pt x="7458" y="14734"/>
                  <a:pt x="7441" y="14734"/>
                </a:cubicBezTo>
                <a:cubicBezTo>
                  <a:pt x="7441" y="14787"/>
                  <a:pt x="7420" y="14804"/>
                  <a:pt x="7417" y="14858"/>
                </a:cubicBezTo>
                <a:cubicBezTo>
                  <a:pt x="7413" y="14923"/>
                  <a:pt x="7415" y="14973"/>
                  <a:pt x="7441" y="15032"/>
                </a:cubicBezTo>
                <a:cubicBezTo>
                  <a:pt x="7459" y="15073"/>
                  <a:pt x="7494" y="15119"/>
                  <a:pt x="7516" y="15131"/>
                </a:cubicBezTo>
                <a:cubicBezTo>
                  <a:pt x="7568" y="15159"/>
                  <a:pt x="7608" y="15190"/>
                  <a:pt x="7665" y="15205"/>
                </a:cubicBezTo>
                <a:cubicBezTo>
                  <a:pt x="7723" y="15220"/>
                  <a:pt x="7770" y="15189"/>
                  <a:pt x="7813" y="15180"/>
                </a:cubicBezTo>
                <a:cubicBezTo>
                  <a:pt x="7854" y="15171"/>
                  <a:pt x="7901" y="15160"/>
                  <a:pt x="7938" y="15156"/>
                </a:cubicBezTo>
                <a:cubicBezTo>
                  <a:pt x="7946" y="15156"/>
                  <a:pt x="7954" y="15156"/>
                  <a:pt x="7962" y="15156"/>
                </a:cubicBezTo>
                <a:cubicBezTo>
                  <a:pt x="7973" y="15080"/>
                  <a:pt x="8009" y="15094"/>
                  <a:pt x="8037" y="15032"/>
                </a:cubicBezTo>
                <a:cubicBezTo>
                  <a:pt x="8060" y="14981"/>
                  <a:pt x="8025" y="14922"/>
                  <a:pt x="8012" y="14883"/>
                </a:cubicBezTo>
                <a:cubicBezTo>
                  <a:pt x="7999" y="14843"/>
                  <a:pt x="8058" y="14785"/>
                  <a:pt x="8037" y="14759"/>
                </a:cubicBezTo>
                <a:cubicBezTo>
                  <a:pt x="8008" y="14723"/>
                  <a:pt x="8020" y="14761"/>
                  <a:pt x="8037" y="14709"/>
                </a:cubicBezTo>
                <a:cubicBezTo>
                  <a:pt x="7994" y="14709"/>
                  <a:pt x="7999" y="14699"/>
                  <a:pt x="7987" y="14734"/>
                </a:cubicBezTo>
                <a:cubicBezTo>
                  <a:pt x="8019" y="14723"/>
                  <a:pt x="8027" y="14700"/>
                  <a:pt x="8037" y="14660"/>
                </a:cubicBezTo>
                <a:cubicBezTo>
                  <a:pt x="7987" y="14672"/>
                  <a:pt x="7987" y="14683"/>
                  <a:pt x="7987" y="14734"/>
                </a:cubicBezTo>
                <a:cubicBezTo>
                  <a:pt x="7987" y="14742"/>
                  <a:pt x="7987" y="14751"/>
                  <a:pt x="7987" y="14759"/>
                </a:cubicBezTo>
                <a:cubicBezTo>
                  <a:pt x="8020" y="14751"/>
                  <a:pt x="8073" y="14709"/>
                  <a:pt x="8037" y="14660"/>
                </a:cubicBezTo>
                <a:cubicBezTo>
                  <a:pt x="8010" y="14623"/>
                  <a:pt x="7970" y="14698"/>
                  <a:pt x="7962" y="14709"/>
                </a:cubicBezTo>
                <a:cubicBezTo>
                  <a:pt x="7962" y="14737"/>
                  <a:pt x="7964" y="14743"/>
                  <a:pt x="7987" y="1470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3800" y="532296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8756" y="14784"/>
                </a:moveTo>
                <a:cubicBezTo>
                  <a:pt x="8748" y="14807"/>
                  <a:pt x="8747" y="14830"/>
                  <a:pt x="8731" y="14858"/>
                </a:cubicBezTo>
                <a:cubicBezTo>
                  <a:pt x="8700" y="14913"/>
                  <a:pt x="8709" y="14968"/>
                  <a:pt x="8731" y="15032"/>
                </a:cubicBezTo>
                <a:cubicBezTo>
                  <a:pt x="8742" y="15066"/>
                  <a:pt x="8803" y="15149"/>
                  <a:pt x="8806" y="15156"/>
                </a:cubicBezTo>
                <a:cubicBezTo>
                  <a:pt x="8828" y="15221"/>
                  <a:pt x="8840" y="15225"/>
                  <a:pt x="8930" y="15230"/>
                </a:cubicBezTo>
                <a:cubicBezTo>
                  <a:pt x="8982" y="15233"/>
                  <a:pt x="9016" y="15239"/>
                  <a:pt x="9054" y="15205"/>
                </a:cubicBezTo>
                <a:cubicBezTo>
                  <a:pt x="9086" y="15177"/>
                  <a:pt x="9122" y="15176"/>
                  <a:pt x="9153" y="15156"/>
                </a:cubicBezTo>
                <a:cubicBezTo>
                  <a:pt x="9169" y="15146"/>
                  <a:pt x="9247" y="15114"/>
                  <a:pt x="9252" y="15106"/>
                </a:cubicBezTo>
                <a:cubicBezTo>
                  <a:pt x="9270" y="15079"/>
                  <a:pt x="9277" y="15043"/>
                  <a:pt x="9277" y="15007"/>
                </a:cubicBezTo>
                <a:cubicBezTo>
                  <a:pt x="9277" y="14945"/>
                  <a:pt x="9267" y="14912"/>
                  <a:pt x="9252" y="14883"/>
                </a:cubicBezTo>
                <a:cubicBezTo>
                  <a:pt x="9229" y="14837"/>
                  <a:pt x="9282" y="14787"/>
                  <a:pt x="9252" y="14808"/>
                </a:cubicBezTo>
                <a:cubicBezTo>
                  <a:pt x="9212" y="14828"/>
                  <a:pt x="9196" y="14827"/>
                  <a:pt x="9203" y="14858"/>
                </a:cubicBezTo>
                <a:cubicBezTo>
                  <a:pt x="9223" y="14921"/>
                  <a:pt x="9242" y="14842"/>
                  <a:pt x="9252" y="14808"/>
                </a:cubicBezTo>
                <a:cubicBezTo>
                  <a:pt x="9252" y="14800"/>
                  <a:pt x="9252" y="14792"/>
                  <a:pt x="9252" y="14784"/>
                </a:cubicBezTo>
                <a:cubicBezTo>
                  <a:pt x="9188" y="14784"/>
                  <a:pt x="9155" y="14793"/>
                  <a:pt x="9128" y="14858"/>
                </a:cubicBezTo>
                <a:cubicBezTo>
                  <a:pt x="9128" y="14866"/>
                  <a:pt x="9128" y="14875"/>
                  <a:pt x="9128" y="14883"/>
                </a:cubicBezTo>
                <a:cubicBezTo>
                  <a:pt x="9195" y="14883"/>
                  <a:pt x="9235" y="14900"/>
                  <a:pt x="9277" y="14833"/>
                </a:cubicBezTo>
                <a:cubicBezTo>
                  <a:pt x="9277" y="14808"/>
                  <a:pt x="9277" y="14800"/>
                  <a:pt x="9277" y="14784"/>
                </a:cubicBezTo>
                <a:cubicBezTo>
                  <a:pt x="9252" y="14787"/>
                  <a:pt x="9128" y="14821"/>
                  <a:pt x="9178" y="14883"/>
                </a:cubicBezTo>
                <a:cubicBezTo>
                  <a:pt x="9186" y="14883"/>
                  <a:pt x="9195" y="14883"/>
                  <a:pt x="9203" y="1488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569"/>
                </a:solidFill>
                <a:latin typeface="Tahoma"/>
              </a:rPr>
              <a:t>Objective:  Students will divide by a decimal.</a:t>
            </a:r>
            <a:br>
              <a:rPr sz="2000"/>
            </a:b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Let’s practice: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981080"/>
          <a:ext cx="14986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1498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91320" y="1981080"/>
          <a:ext cx="12826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81080"/>
                    <a:ext cx="1282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066680" y="4038480"/>
          <a:ext cx="13464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038480"/>
                    <a:ext cx="13464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867280" y="3962520"/>
          <a:ext cx="153684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962520"/>
                    <a:ext cx="1536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473200" y="2152800"/>
            <a:ext cx="1036800" cy="820440"/>
          </a:xfrm>
          <a:custGeom>
            <a:avLst/>
            <a:gdLst/>
            <a:ahLst/>
            <a:rect l="l" t="t" r="r" b="b"/>
            <a:pathLst>
              <a:path w="2878" h="2283">
                <a:moveTo>
                  <a:pt x="8880" y="6896"/>
                </a:moveTo>
                <a:cubicBezTo>
                  <a:pt x="8819" y="6884"/>
                  <a:pt x="8792" y="6871"/>
                  <a:pt x="8731" y="6896"/>
                </a:cubicBezTo>
                <a:cubicBezTo>
                  <a:pt x="8619" y="6942"/>
                  <a:pt x="8634" y="7119"/>
                  <a:pt x="8632" y="7218"/>
                </a:cubicBezTo>
                <a:cubicBezTo>
                  <a:pt x="8630" y="7318"/>
                  <a:pt x="8663" y="7519"/>
                  <a:pt x="8781" y="7565"/>
                </a:cubicBezTo>
                <a:cubicBezTo>
                  <a:pt x="8919" y="7619"/>
                  <a:pt x="8992" y="7380"/>
                  <a:pt x="9004" y="7293"/>
                </a:cubicBezTo>
                <a:cubicBezTo>
                  <a:pt x="9025" y="7143"/>
                  <a:pt x="9019" y="6987"/>
                  <a:pt x="8880" y="6896"/>
                </a:cubicBezTo>
                <a:cubicBezTo>
                  <a:pt x="8788" y="6835"/>
                  <a:pt x="8724" y="6852"/>
                  <a:pt x="8632" y="6896"/>
                </a:cubicBezTo>
                <a:cubicBezTo>
                  <a:pt x="8572" y="6925"/>
                  <a:pt x="8498" y="6969"/>
                  <a:pt x="8508" y="7045"/>
                </a:cubicBezTo>
                <a:cubicBezTo>
                  <a:pt x="8516" y="7070"/>
                  <a:pt x="8525" y="7094"/>
                  <a:pt x="8533" y="7119"/>
                </a:cubicBezTo>
              </a:path>
              <a:path w="2878" h="2283">
                <a:moveTo>
                  <a:pt x="8880" y="6127"/>
                </a:moveTo>
                <a:cubicBezTo>
                  <a:pt x="8860" y="6105"/>
                  <a:pt x="8844" y="6072"/>
                  <a:pt x="8806" y="6052"/>
                </a:cubicBezTo>
                <a:cubicBezTo>
                  <a:pt x="8693" y="5992"/>
                  <a:pt x="8584" y="5981"/>
                  <a:pt x="8458" y="5978"/>
                </a:cubicBezTo>
                <a:cubicBezTo>
                  <a:pt x="8237" y="5973"/>
                  <a:pt x="7985" y="5993"/>
                  <a:pt x="7789" y="6102"/>
                </a:cubicBezTo>
                <a:cubicBezTo>
                  <a:pt x="7573" y="6222"/>
                  <a:pt x="7354" y="6386"/>
                  <a:pt x="7169" y="6548"/>
                </a:cubicBezTo>
                <a:cubicBezTo>
                  <a:pt x="7039" y="6662"/>
                  <a:pt x="6898" y="6790"/>
                  <a:pt x="6871" y="6970"/>
                </a:cubicBezTo>
                <a:cubicBezTo>
                  <a:pt x="6844" y="7151"/>
                  <a:pt x="6979" y="7443"/>
                  <a:pt x="7069" y="7590"/>
                </a:cubicBezTo>
                <a:cubicBezTo>
                  <a:pt x="7166" y="7748"/>
                  <a:pt x="7286" y="7906"/>
                  <a:pt x="7441" y="8012"/>
                </a:cubicBezTo>
                <a:cubicBezTo>
                  <a:pt x="7617" y="8132"/>
                  <a:pt x="7755" y="8175"/>
                  <a:pt x="7962" y="8210"/>
                </a:cubicBezTo>
                <a:cubicBezTo>
                  <a:pt x="8162" y="8244"/>
                  <a:pt x="8359" y="8259"/>
                  <a:pt x="8558" y="8235"/>
                </a:cubicBezTo>
                <a:cubicBezTo>
                  <a:pt x="8814" y="8204"/>
                  <a:pt x="9033" y="8108"/>
                  <a:pt x="9252" y="7987"/>
                </a:cubicBezTo>
                <a:cubicBezTo>
                  <a:pt x="9397" y="7907"/>
                  <a:pt x="9489" y="7833"/>
                  <a:pt x="9575" y="7689"/>
                </a:cubicBezTo>
                <a:cubicBezTo>
                  <a:pt x="9664" y="7540"/>
                  <a:pt x="9734" y="7394"/>
                  <a:pt x="9748" y="7218"/>
                </a:cubicBezTo>
                <a:cubicBezTo>
                  <a:pt x="9762" y="7048"/>
                  <a:pt x="9704" y="6847"/>
                  <a:pt x="9624" y="6697"/>
                </a:cubicBezTo>
                <a:cubicBezTo>
                  <a:pt x="9549" y="6555"/>
                  <a:pt x="9466" y="6460"/>
                  <a:pt x="9327" y="6375"/>
                </a:cubicBezTo>
                <a:cubicBezTo>
                  <a:pt x="9201" y="6298"/>
                  <a:pt x="9046" y="6241"/>
                  <a:pt x="8905" y="6201"/>
                </a:cubicBezTo>
                <a:cubicBezTo>
                  <a:pt x="8776" y="6165"/>
                  <a:pt x="8666" y="6154"/>
                  <a:pt x="8533" y="6152"/>
                </a:cubicBezTo>
                <a:cubicBezTo>
                  <a:pt x="8401" y="6150"/>
                  <a:pt x="8264" y="6137"/>
                  <a:pt x="8136" y="6176"/>
                </a:cubicBezTo>
                <a:cubicBezTo>
                  <a:pt x="8101" y="6187"/>
                  <a:pt x="8120" y="6188"/>
                  <a:pt x="8086" y="620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5880" y="3963960"/>
            <a:ext cx="534960" cy="492120"/>
          </a:xfrm>
          <a:custGeom>
            <a:avLst/>
            <a:gdLst/>
            <a:ahLst/>
            <a:rect l="l" t="t" r="r" b="b"/>
            <a:pathLst>
              <a:path w="1489" h="1366">
                <a:moveTo>
                  <a:pt x="9674" y="11187"/>
                </a:moveTo>
                <a:cubicBezTo>
                  <a:pt x="9636" y="11156"/>
                  <a:pt x="9576" y="11119"/>
                  <a:pt x="9525" y="11112"/>
                </a:cubicBezTo>
                <a:cubicBezTo>
                  <a:pt x="9463" y="11103"/>
                  <a:pt x="9347" y="11098"/>
                  <a:pt x="9302" y="11137"/>
                </a:cubicBezTo>
                <a:cubicBezTo>
                  <a:pt x="9195" y="11230"/>
                  <a:pt x="9198" y="11421"/>
                  <a:pt x="9277" y="11534"/>
                </a:cubicBezTo>
                <a:cubicBezTo>
                  <a:pt x="9302" y="11551"/>
                  <a:pt x="9326" y="11567"/>
                  <a:pt x="9351" y="11584"/>
                </a:cubicBezTo>
                <a:cubicBezTo>
                  <a:pt x="9509" y="11505"/>
                  <a:pt x="9667" y="11396"/>
                  <a:pt x="9649" y="11187"/>
                </a:cubicBezTo>
                <a:cubicBezTo>
                  <a:pt x="9631" y="10978"/>
                  <a:pt x="9439" y="10985"/>
                  <a:pt x="9302" y="11063"/>
                </a:cubicBezTo>
                <a:cubicBezTo>
                  <a:pt x="9208" y="11133"/>
                  <a:pt x="9177" y="11151"/>
                  <a:pt x="9178" y="11237"/>
                </a:cubicBezTo>
              </a:path>
              <a:path w="1489" h="1366">
                <a:moveTo>
                  <a:pt x="8682" y="11757"/>
                </a:moveTo>
                <a:cubicBezTo>
                  <a:pt x="8873" y="11757"/>
                  <a:pt x="9062" y="11728"/>
                  <a:pt x="9252" y="11708"/>
                </a:cubicBezTo>
                <a:cubicBezTo>
                  <a:pt x="9533" y="11679"/>
                  <a:pt x="9815" y="11637"/>
                  <a:pt x="10096" y="11609"/>
                </a:cubicBezTo>
                <a:cubicBezTo>
                  <a:pt x="10171" y="11609"/>
                  <a:pt x="10196" y="11610"/>
                  <a:pt x="10145" y="11683"/>
                </a:cubicBezTo>
              </a:path>
              <a:path w="1489" h="1366">
                <a:moveTo>
                  <a:pt x="9823" y="11881"/>
                </a:moveTo>
                <a:cubicBezTo>
                  <a:pt x="9818" y="11868"/>
                  <a:pt x="9774" y="11830"/>
                  <a:pt x="9748" y="11857"/>
                </a:cubicBezTo>
                <a:cubicBezTo>
                  <a:pt x="9638" y="11975"/>
                  <a:pt x="9628" y="12100"/>
                  <a:pt x="9624" y="12254"/>
                </a:cubicBezTo>
                <a:cubicBezTo>
                  <a:pt x="9619" y="12412"/>
                  <a:pt x="9769" y="12400"/>
                  <a:pt x="9872" y="12328"/>
                </a:cubicBezTo>
                <a:cubicBezTo>
                  <a:pt x="9997" y="12241"/>
                  <a:pt x="10088" y="12081"/>
                  <a:pt x="10021" y="11931"/>
                </a:cubicBezTo>
                <a:cubicBezTo>
                  <a:pt x="9974" y="11827"/>
                  <a:pt x="9803" y="11841"/>
                  <a:pt x="9723" y="11881"/>
                </a:cubicBezTo>
                <a:cubicBezTo>
                  <a:pt x="9668" y="11909"/>
                  <a:pt x="9649" y="11931"/>
                  <a:pt x="9649" y="11981"/>
                </a:cubicBezTo>
                <a:cubicBezTo>
                  <a:pt x="9649" y="11989"/>
                  <a:pt x="9649" y="11997"/>
                  <a:pt x="9649" y="1200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1760" y="2446200"/>
            <a:ext cx="179280" cy="30492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7987" y="6921"/>
                </a:moveTo>
                <a:cubicBezTo>
                  <a:pt x="7995" y="6921"/>
                  <a:pt x="8004" y="6921"/>
                  <a:pt x="8012" y="6921"/>
                </a:cubicBezTo>
                <a:cubicBezTo>
                  <a:pt x="8023" y="6878"/>
                  <a:pt x="8049" y="6851"/>
                  <a:pt x="7987" y="6821"/>
                </a:cubicBezTo>
                <a:cubicBezTo>
                  <a:pt x="7819" y="6740"/>
                  <a:pt x="7709" y="6848"/>
                  <a:pt x="7640" y="6995"/>
                </a:cubicBezTo>
                <a:cubicBezTo>
                  <a:pt x="7564" y="7158"/>
                  <a:pt x="7676" y="7236"/>
                  <a:pt x="7813" y="7268"/>
                </a:cubicBezTo>
                <a:cubicBezTo>
                  <a:pt x="7919" y="7293"/>
                  <a:pt x="8110" y="7260"/>
                  <a:pt x="8086" y="7417"/>
                </a:cubicBezTo>
                <a:cubicBezTo>
                  <a:pt x="8064" y="7559"/>
                  <a:pt x="7961" y="7615"/>
                  <a:pt x="7838" y="7640"/>
                </a:cubicBezTo>
                <a:cubicBezTo>
                  <a:pt x="7821" y="7455"/>
                  <a:pt x="7828" y="7356"/>
                  <a:pt x="7938" y="7193"/>
                </a:cubicBezTo>
                <a:cubicBezTo>
                  <a:pt x="7955" y="7168"/>
                  <a:pt x="8144" y="6954"/>
                  <a:pt x="8086" y="6945"/>
                </a:cubicBezTo>
                <a:cubicBezTo>
                  <a:pt x="8041" y="6938"/>
                  <a:pt x="8026" y="6962"/>
                  <a:pt x="8012" y="69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240" y="2660760"/>
            <a:ext cx="3017880" cy="768240"/>
          </a:xfrm>
          <a:custGeom>
            <a:avLst/>
            <a:gdLst/>
            <a:ahLst/>
            <a:rect l="l" t="t" r="r" b="b"/>
            <a:pathLst>
              <a:path w="8385" h="2134">
                <a:moveTo>
                  <a:pt x="5184" y="9327"/>
                </a:moveTo>
                <a:lnTo>
                  <a:pt x="5184" y="9327"/>
                </a:lnTo>
              </a:path>
              <a:path w="8385" h="2134">
                <a:moveTo>
                  <a:pt x="4614" y="8285"/>
                </a:moveTo>
                <a:cubicBezTo>
                  <a:pt x="4614" y="8260"/>
                  <a:pt x="4614" y="8252"/>
                  <a:pt x="4614" y="8235"/>
                </a:cubicBezTo>
              </a:path>
              <a:path w="8385" h="2134">
                <a:moveTo>
                  <a:pt x="6201" y="8310"/>
                </a:moveTo>
                <a:cubicBezTo>
                  <a:pt x="6201" y="8277"/>
                  <a:pt x="6201" y="8243"/>
                  <a:pt x="6201" y="8210"/>
                </a:cubicBezTo>
                <a:cubicBezTo>
                  <a:pt x="6118" y="8294"/>
                  <a:pt x="6053" y="8375"/>
                  <a:pt x="6003" y="8483"/>
                </a:cubicBezTo>
                <a:cubicBezTo>
                  <a:pt x="5944" y="8611"/>
                  <a:pt x="5872" y="8820"/>
                  <a:pt x="5953" y="8954"/>
                </a:cubicBezTo>
                <a:cubicBezTo>
                  <a:pt x="6074" y="9155"/>
                  <a:pt x="6374" y="9079"/>
                  <a:pt x="6548" y="9029"/>
                </a:cubicBezTo>
                <a:cubicBezTo>
                  <a:pt x="6673" y="8993"/>
                  <a:pt x="6860" y="8885"/>
                  <a:pt x="6846" y="8731"/>
                </a:cubicBezTo>
                <a:cubicBezTo>
                  <a:pt x="6830" y="8555"/>
                  <a:pt x="6524" y="8657"/>
                  <a:pt x="6449" y="8706"/>
                </a:cubicBezTo>
                <a:cubicBezTo>
                  <a:pt x="6308" y="8798"/>
                  <a:pt x="6175" y="8960"/>
                  <a:pt x="6226" y="9128"/>
                </a:cubicBezTo>
                <a:cubicBezTo>
                  <a:pt x="6248" y="9201"/>
                  <a:pt x="6284" y="9173"/>
                  <a:pt x="6350" y="9203"/>
                </a:cubicBezTo>
              </a:path>
              <a:path w="8385" h="2134">
                <a:moveTo>
                  <a:pt x="7193" y="8731"/>
                </a:moveTo>
                <a:cubicBezTo>
                  <a:pt x="7142" y="8768"/>
                  <a:pt x="7132" y="8766"/>
                  <a:pt x="7119" y="8830"/>
                </a:cubicBezTo>
                <a:cubicBezTo>
                  <a:pt x="7164" y="8830"/>
                  <a:pt x="7218" y="8827"/>
                  <a:pt x="7243" y="8781"/>
                </a:cubicBezTo>
                <a:cubicBezTo>
                  <a:pt x="7243" y="8773"/>
                  <a:pt x="7243" y="8764"/>
                  <a:pt x="7243" y="8756"/>
                </a:cubicBezTo>
              </a:path>
              <a:path w="8385" h="2134">
                <a:moveTo>
                  <a:pt x="7863" y="8161"/>
                </a:moveTo>
                <a:cubicBezTo>
                  <a:pt x="7842" y="8264"/>
                  <a:pt x="7764" y="8352"/>
                  <a:pt x="7739" y="8458"/>
                </a:cubicBezTo>
                <a:cubicBezTo>
                  <a:pt x="7706" y="8600"/>
                  <a:pt x="7873" y="8568"/>
                  <a:pt x="7962" y="8558"/>
                </a:cubicBezTo>
                <a:cubicBezTo>
                  <a:pt x="8064" y="8546"/>
                  <a:pt x="8163" y="8513"/>
                  <a:pt x="8260" y="8483"/>
                </a:cubicBezTo>
              </a:path>
              <a:path w="8385" h="2134">
                <a:moveTo>
                  <a:pt x="8285" y="7888"/>
                </a:moveTo>
                <a:cubicBezTo>
                  <a:pt x="8193" y="8108"/>
                  <a:pt x="8151" y="8331"/>
                  <a:pt x="8086" y="8558"/>
                </a:cubicBezTo>
                <a:cubicBezTo>
                  <a:pt x="8036" y="8734"/>
                  <a:pt x="7956" y="8897"/>
                  <a:pt x="7938" y="9079"/>
                </a:cubicBezTo>
              </a:path>
              <a:path w="8385" h="2134">
                <a:moveTo>
                  <a:pt x="5011" y="9103"/>
                </a:moveTo>
                <a:cubicBezTo>
                  <a:pt x="5029" y="9027"/>
                  <a:pt x="5049" y="9007"/>
                  <a:pt x="5060" y="8930"/>
                </a:cubicBezTo>
                <a:cubicBezTo>
                  <a:pt x="5101" y="8640"/>
                  <a:pt x="5152" y="8355"/>
                  <a:pt x="5159" y="8062"/>
                </a:cubicBezTo>
                <a:cubicBezTo>
                  <a:pt x="5160" y="8037"/>
                  <a:pt x="5159" y="8012"/>
                  <a:pt x="5159" y="7987"/>
                </a:cubicBezTo>
                <a:cubicBezTo>
                  <a:pt x="5780" y="7987"/>
                  <a:pt x="6400" y="7979"/>
                  <a:pt x="7020" y="7987"/>
                </a:cubicBezTo>
                <a:cubicBezTo>
                  <a:pt x="7691" y="7996"/>
                  <a:pt x="8360" y="7981"/>
                  <a:pt x="9029" y="7962"/>
                </a:cubicBezTo>
                <a:cubicBezTo>
                  <a:pt x="9227" y="7956"/>
                  <a:pt x="9426" y="7962"/>
                  <a:pt x="9624" y="7962"/>
                </a:cubicBezTo>
              </a:path>
              <a:path w="8385" h="2134">
                <a:moveTo>
                  <a:pt x="2505" y="8458"/>
                </a:moveTo>
                <a:cubicBezTo>
                  <a:pt x="2426" y="8439"/>
                  <a:pt x="2437" y="8398"/>
                  <a:pt x="2356" y="8508"/>
                </a:cubicBezTo>
                <a:cubicBezTo>
                  <a:pt x="2255" y="8646"/>
                  <a:pt x="2113" y="8850"/>
                  <a:pt x="2133" y="9029"/>
                </a:cubicBezTo>
                <a:cubicBezTo>
                  <a:pt x="2150" y="9178"/>
                  <a:pt x="2394" y="9129"/>
                  <a:pt x="2480" y="9103"/>
                </a:cubicBezTo>
                <a:cubicBezTo>
                  <a:pt x="2626" y="9058"/>
                  <a:pt x="2800" y="8915"/>
                  <a:pt x="2877" y="8781"/>
                </a:cubicBezTo>
                <a:cubicBezTo>
                  <a:pt x="2943" y="8667"/>
                  <a:pt x="2958" y="8539"/>
                  <a:pt x="2877" y="8458"/>
                </a:cubicBezTo>
                <a:cubicBezTo>
                  <a:pt x="2809" y="8390"/>
                  <a:pt x="2695" y="8387"/>
                  <a:pt x="2604" y="8434"/>
                </a:cubicBezTo>
                <a:cubicBezTo>
                  <a:pt x="2604" y="8442"/>
                  <a:pt x="2604" y="8450"/>
                  <a:pt x="2604" y="8458"/>
                </a:cubicBezTo>
              </a:path>
              <a:path w="8385" h="2134">
                <a:moveTo>
                  <a:pt x="3423" y="9004"/>
                </a:moveTo>
                <a:cubicBezTo>
                  <a:pt x="3423" y="9032"/>
                  <a:pt x="3425" y="9043"/>
                  <a:pt x="3448" y="9054"/>
                </a:cubicBezTo>
              </a:path>
              <a:path w="8385" h="2134">
                <a:moveTo>
                  <a:pt x="4093" y="8310"/>
                </a:moveTo>
                <a:cubicBezTo>
                  <a:pt x="3997" y="8333"/>
                  <a:pt x="3929" y="8547"/>
                  <a:pt x="3894" y="8632"/>
                </a:cubicBezTo>
                <a:cubicBezTo>
                  <a:pt x="3828" y="8794"/>
                  <a:pt x="3848" y="8837"/>
                  <a:pt x="3919" y="8979"/>
                </a:cubicBezTo>
                <a:cubicBezTo>
                  <a:pt x="4175" y="8954"/>
                  <a:pt x="4280" y="8895"/>
                  <a:pt x="4366" y="8632"/>
                </a:cubicBezTo>
                <a:cubicBezTo>
                  <a:pt x="4430" y="8437"/>
                  <a:pt x="4353" y="8364"/>
                  <a:pt x="4167" y="8334"/>
                </a:cubicBezTo>
                <a:cubicBezTo>
                  <a:pt x="4109" y="8334"/>
                  <a:pt x="4101" y="8334"/>
                  <a:pt x="4068" y="8334"/>
                </a:cubicBezTo>
              </a:path>
              <a:path w="8385" h="2134">
                <a:moveTo>
                  <a:pt x="4936" y="8161"/>
                </a:moveTo>
                <a:cubicBezTo>
                  <a:pt x="4802" y="8171"/>
                  <a:pt x="4698" y="8200"/>
                  <a:pt x="4589" y="8285"/>
                </a:cubicBezTo>
                <a:cubicBezTo>
                  <a:pt x="4517" y="8341"/>
                  <a:pt x="4468" y="8480"/>
                  <a:pt x="4539" y="8558"/>
                </a:cubicBezTo>
                <a:cubicBezTo>
                  <a:pt x="4631" y="8658"/>
                  <a:pt x="4797" y="8682"/>
                  <a:pt x="4887" y="8781"/>
                </a:cubicBezTo>
                <a:cubicBezTo>
                  <a:pt x="4932" y="8830"/>
                  <a:pt x="4716" y="8925"/>
                  <a:pt x="4688" y="8930"/>
                </a:cubicBezTo>
                <a:cubicBezTo>
                  <a:pt x="4663" y="8930"/>
                  <a:pt x="4639" y="8930"/>
                  <a:pt x="4614" y="8930"/>
                </a:cubicBezTo>
                <a:cubicBezTo>
                  <a:pt x="4633" y="8792"/>
                  <a:pt x="4679" y="8634"/>
                  <a:pt x="4738" y="8508"/>
                </a:cubicBezTo>
                <a:cubicBezTo>
                  <a:pt x="4782" y="8414"/>
                  <a:pt x="4862" y="8342"/>
                  <a:pt x="4862" y="8235"/>
                </a:cubicBezTo>
              </a:path>
              <a:path w="8385" h="2134">
                <a:moveTo>
                  <a:pt x="3547" y="9103"/>
                </a:moveTo>
                <a:cubicBezTo>
                  <a:pt x="3522" y="9103"/>
                  <a:pt x="3514" y="9103"/>
                  <a:pt x="3522" y="9079"/>
                </a:cubicBezTo>
              </a:path>
              <a:path w="8385" h="2134">
                <a:moveTo>
                  <a:pt x="3522" y="9079"/>
                </a:moveTo>
                <a:cubicBezTo>
                  <a:pt x="3511" y="9060"/>
                  <a:pt x="3513" y="9023"/>
                  <a:pt x="3497" y="9004"/>
                </a:cubicBezTo>
                <a:cubicBezTo>
                  <a:pt x="3489" y="9004"/>
                  <a:pt x="3481" y="9004"/>
                  <a:pt x="3473" y="9004"/>
                </a:cubicBezTo>
                <a:cubicBezTo>
                  <a:pt x="3467" y="9053"/>
                  <a:pt x="3421" y="9094"/>
                  <a:pt x="3497" y="9079"/>
                </a:cubicBezTo>
                <a:cubicBezTo>
                  <a:pt x="3546" y="9069"/>
                  <a:pt x="3545" y="9042"/>
                  <a:pt x="3572" y="9004"/>
                </a:cubicBezTo>
                <a:cubicBezTo>
                  <a:pt x="3526" y="9009"/>
                  <a:pt x="3492" y="9003"/>
                  <a:pt x="3473" y="9029"/>
                </a:cubicBezTo>
                <a:cubicBezTo>
                  <a:pt x="3465" y="9046"/>
                  <a:pt x="3456" y="9062"/>
                  <a:pt x="3448" y="9079"/>
                </a:cubicBezTo>
                <a:cubicBezTo>
                  <a:pt x="3454" y="9078"/>
                  <a:pt x="3590" y="9090"/>
                  <a:pt x="3522" y="9004"/>
                </a:cubicBezTo>
                <a:cubicBezTo>
                  <a:pt x="3470" y="8937"/>
                  <a:pt x="3430" y="9066"/>
                  <a:pt x="3423" y="9079"/>
                </a:cubicBezTo>
                <a:cubicBezTo>
                  <a:pt x="3436" y="9077"/>
                  <a:pt x="3494" y="9055"/>
                  <a:pt x="3497" y="9054"/>
                </a:cubicBezTo>
                <a:cubicBezTo>
                  <a:pt x="3522" y="9054"/>
                  <a:pt x="3530" y="9054"/>
                  <a:pt x="3547" y="9054"/>
                </a:cubicBezTo>
                <a:cubicBezTo>
                  <a:pt x="3532" y="9078"/>
                  <a:pt x="3524" y="9075"/>
                  <a:pt x="3522" y="9128"/>
                </a:cubicBezTo>
                <a:cubicBezTo>
                  <a:pt x="3519" y="9199"/>
                  <a:pt x="3492" y="9397"/>
                  <a:pt x="3547" y="9451"/>
                </a:cubicBezTo>
                <a:cubicBezTo>
                  <a:pt x="3565" y="9468"/>
                  <a:pt x="3642" y="9501"/>
                  <a:pt x="3671" y="9500"/>
                </a:cubicBezTo>
                <a:cubicBezTo>
                  <a:pt x="3726" y="9497"/>
                  <a:pt x="3836" y="9486"/>
                  <a:pt x="3894" y="9475"/>
                </a:cubicBezTo>
                <a:cubicBezTo>
                  <a:pt x="3943" y="9466"/>
                  <a:pt x="3997" y="9430"/>
                  <a:pt x="4043" y="9401"/>
                </a:cubicBezTo>
                <a:cubicBezTo>
                  <a:pt x="4073" y="9382"/>
                  <a:pt x="4139" y="9350"/>
                  <a:pt x="4167" y="9327"/>
                </a:cubicBezTo>
                <a:cubicBezTo>
                  <a:pt x="4198" y="9301"/>
                  <a:pt x="4217" y="9241"/>
                  <a:pt x="4242" y="9203"/>
                </a:cubicBezTo>
                <a:cubicBezTo>
                  <a:pt x="4259" y="9178"/>
                  <a:pt x="4251" y="9179"/>
                  <a:pt x="4266" y="9153"/>
                </a:cubicBezTo>
                <a:cubicBezTo>
                  <a:pt x="4266" y="9242"/>
                  <a:pt x="4262" y="9318"/>
                  <a:pt x="4291" y="9401"/>
                </a:cubicBezTo>
                <a:cubicBezTo>
                  <a:pt x="4318" y="9479"/>
                  <a:pt x="4304" y="9509"/>
                  <a:pt x="4390" y="9525"/>
                </a:cubicBezTo>
                <a:cubicBezTo>
                  <a:pt x="4490" y="9543"/>
                  <a:pt x="4647" y="9539"/>
                  <a:pt x="4738" y="9500"/>
                </a:cubicBezTo>
                <a:cubicBezTo>
                  <a:pt x="4788" y="9479"/>
                  <a:pt x="4959" y="9384"/>
                  <a:pt x="4986" y="9351"/>
                </a:cubicBezTo>
                <a:cubicBezTo>
                  <a:pt x="5005" y="9327"/>
                  <a:pt x="5043" y="9265"/>
                  <a:pt x="5060" y="9227"/>
                </a:cubicBezTo>
                <a:cubicBezTo>
                  <a:pt x="5074" y="9196"/>
                  <a:pt x="5104" y="9136"/>
                  <a:pt x="5110" y="9103"/>
                </a:cubicBezTo>
                <a:cubicBezTo>
                  <a:pt x="5121" y="9038"/>
                  <a:pt x="5110" y="9020"/>
                  <a:pt x="5110" y="8954"/>
                </a:cubicBezTo>
                <a:cubicBezTo>
                  <a:pt x="5060" y="9004"/>
                  <a:pt x="5132" y="8974"/>
                  <a:pt x="5159" y="8905"/>
                </a:cubicBezTo>
                <a:cubicBezTo>
                  <a:pt x="5184" y="8880"/>
                  <a:pt x="5192" y="8872"/>
                  <a:pt x="5159" y="8855"/>
                </a:cubicBezTo>
                <a:cubicBezTo>
                  <a:pt x="5126" y="8889"/>
                  <a:pt x="5099" y="8902"/>
                  <a:pt x="5085" y="8930"/>
                </a:cubicBezTo>
                <a:cubicBezTo>
                  <a:pt x="5085" y="8938"/>
                  <a:pt x="5085" y="8946"/>
                  <a:pt x="5085" y="8954"/>
                </a:cubicBezTo>
              </a:path>
              <a:path w="8385" h="2134">
                <a:moveTo>
                  <a:pt x="9475" y="9178"/>
                </a:moveTo>
                <a:cubicBezTo>
                  <a:pt x="9467" y="9170"/>
                  <a:pt x="9459" y="9161"/>
                  <a:pt x="9451" y="9153"/>
                </a:cubicBezTo>
              </a:path>
              <a:path w="8385" h="2134">
                <a:moveTo>
                  <a:pt x="6648" y="8905"/>
                </a:moveTo>
                <a:cubicBezTo>
                  <a:pt x="6670" y="8883"/>
                  <a:pt x="6681" y="8874"/>
                  <a:pt x="6648" y="8880"/>
                </a:cubicBezTo>
                <a:cubicBezTo>
                  <a:pt x="6673" y="8940"/>
                  <a:pt x="6673" y="8987"/>
                  <a:pt x="6747" y="8930"/>
                </a:cubicBezTo>
                <a:cubicBezTo>
                  <a:pt x="6797" y="8892"/>
                  <a:pt x="6793" y="8868"/>
                  <a:pt x="6846" y="8855"/>
                </a:cubicBezTo>
                <a:cubicBezTo>
                  <a:pt x="6846" y="8903"/>
                  <a:pt x="6867" y="8940"/>
                  <a:pt x="6871" y="8954"/>
                </a:cubicBezTo>
                <a:cubicBezTo>
                  <a:pt x="6890" y="9025"/>
                  <a:pt x="6864" y="8986"/>
                  <a:pt x="6921" y="9029"/>
                </a:cubicBezTo>
              </a:path>
              <a:path w="8385" h="2134">
                <a:moveTo>
                  <a:pt x="7069" y="8979"/>
                </a:moveTo>
                <a:cubicBezTo>
                  <a:pt x="7082" y="8970"/>
                  <a:pt x="7133" y="8943"/>
                  <a:pt x="7144" y="8930"/>
                </a:cubicBezTo>
                <a:cubicBezTo>
                  <a:pt x="7155" y="8918"/>
                  <a:pt x="7190" y="8860"/>
                  <a:pt x="7193" y="8855"/>
                </a:cubicBezTo>
                <a:cubicBezTo>
                  <a:pt x="7197" y="8848"/>
                  <a:pt x="7243" y="8797"/>
                  <a:pt x="7243" y="8781"/>
                </a:cubicBezTo>
                <a:cubicBezTo>
                  <a:pt x="7242" y="8720"/>
                  <a:pt x="7198" y="8865"/>
                  <a:pt x="7193" y="8880"/>
                </a:cubicBezTo>
                <a:cubicBezTo>
                  <a:pt x="7168" y="8954"/>
                  <a:pt x="7130" y="9075"/>
                  <a:pt x="7144" y="9153"/>
                </a:cubicBezTo>
                <a:cubicBezTo>
                  <a:pt x="7157" y="9222"/>
                  <a:pt x="7171" y="9368"/>
                  <a:pt x="7218" y="9426"/>
                </a:cubicBezTo>
                <a:cubicBezTo>
                  <a:pt x="7273" y="9492"/>
                  <a:pt x="7339" y="9495"/>
                  <a:pt x="7417" y="9500"/>
                </a:cubicBezTo>
                <a:cubicBezTo>
                  <a:pt x="7532" y="9508"/>
                  <a:pt x="7657" y="9510"/>
                  <a:pt x="7764" y="9475"/>
                </a:cubicBezTo>
                <a:cubicBezTo>
                  <a:pt x="7874" y="9439"/>
                  <a:pt x="7952" y="9409"/>
                  <a:pt x="8037" y="9327"/>
                </a:cubicBezTo>
                <a:cubicBezTo>
                  <a:pt x="8117" y="9250"/>
                  <a:pt x="8195" y="9155"/>
                  <a:pt x="8260" y="9079"/>
                </a:cubicBezTo>
                <a:cubicBezTo>
                  <a:pt x="8297" y="9037"/>
                  <a:pt x="8348" y="8981"/>
                  <a:pt x="8359" y="8930"/>
                </a:cubicBezTo>
                <a:cubicBezTo>
                  <a:pt x="8359" y="8905"/>
                  <a:pt x="8359" y="8897"/>
                  <a:pt x="8359" y="8880"/>
                </a:cubicBezTo>
                <a:cubicBezTo>
                  <a:pt x="8359" y="8882"/>
                  <a:pt x="8308" y="9057"/>
                  <a:pt x="8310" y="9103"/>
                </a:cubicBezTo>
                <a:cubicBezTo>
                  <a:pt x="8312" y="9164"/>
                  <a:pt x="8334" y="9242"/>
                  <a:pt x="8359" y="9302"/>
                </a:cubicBezTo>
                <a:cubicBezTo>
                  <a:pt x="8387" y="9370"/>
                  <a:pt x="8443" y="9421"/>
                  <a:pt x="8508" y="9451"/>
                </a:cubicBezTo>
                <a:cubicBezTo>
                  <a:pt x="8599" y="9492"/>
                  <a:pt x="8714" y="9472"/>
                  <a:pt x="8806" y="9451"/>
                </a:cubicBezTo>
                <a:cubicBezTo>
                  <a:pt x="8890" y="9432"/>
                  <a:pt x="8950" y="9407"/>
                  <a:pt x="9029" y="9376"/>
                </a:cubicBezTo>
                <a:cubicBezTo>
                  <a:pt x="9143" y="9331"/>
                  <a:pt x="9175" y="9284"/>
                  <a:pt x="9227" y="9178"/>
                </a:cubicBezTo>
                <a:cubicBezTo>
                  <a:pt x="9284" y="9061"/>
                  <a:pt x="9284" y="9030"/>
                  <a:pt x="9277" y="8930"/>
                </a:cubicBezTo>
                <a:cubicBezTo>
                  <a:pt x="9265" y="8763"/>
                  <a:pt x="9283" y="8886"/>
                  <a:pt x="9252" y="8855"/>
                </a:cubicBezTo>
                <a:cubicBezTo>
                  <a:pt x="9229" y="8982"/>
                  <a:pt x="9279" y="9021"/>
                  <a:pt x="9426" y="8979"/>
                </a:cubicBezTo>
                <a:cubicBezTo>
                  <a:pt x="9541" y="8947"/>
                  <a:pt x="9670" y="8862"/>
                  <a:pt x="9599" y="8731"/>
                </a:cubicBezTo>
                <a:cubicBezTo>
                  <a:pt x="9539" y="8620"/>
                  <a:pt x="9303" y="8691"/>
                  <a:pt x="9252" y="8781"/>
                </a:cubicBezTo>
                <a:cubicBezTo>
                  <a:pt x="9252" y="8806"/>
                  <a:pt x="9252" y="8830"/>
                  <a:pt x="9252" y="8855"/>
                </a:cubicBezTo>
                <a:cubicBezTo>
                  <a:pt x="9336" y="8939"/>
                  <a:pt x="9430" y="8961"/>
                  <a:pt x="9525" y="8855"/>
                </a:cubicBezTo>
                <a:cubicBezTo>
                  <a:pt x="9549" y="8807"/>
                  <a:pt x="9558" y="8793"/>
                  <a:pt x="9550" y="8756"/>
                </a:cubicBezTo>
                <a:cubicBezTo>
                  <a:pt x="9461" y="8736"/>
                  <a:pt x="9321" y="8878"/>
                  <a:pt x="9327" y="8880"/>
                </a:cubicBezTo>
                <a:cubicBezTo>
                  <a:pt x="9419" y="8906"/>
                  <a:pt x="9418" y="8833"/>
                  <a:pt x="9451" y="8781"/>
                </a:cubicBezTo>
                <a:cubicBezTo>
                  <a:pt x="9386" y="8811"/>
                  <a:pt x="9369" y="8828"/>
                  <a:pt x="9327" y="8880"/>
                </a:cubicBezTo>
                <a:cubicBezTo>
                  <a:pt x="9330" y="8878"/>
                  <a:pt x="9501" y="8824"/>
                  <a:pt x="9401" y="8806"/>
                </a:cubicBezTo>
                <a:cubicBezTo>
                  <a:pt x="9359" y="8799"/>
                  <a:pt x="9382" y="8825"/>
                  <a:pt x="9351" y="8855"/>
                </a:cubicBezTo>
              </a:path>
              <a:path w="8385" h="2134">
                <a:moveTo>
                  <a:pt x="8905" y="8384"/>
                </a:moveTo>
                <a:cubicBezTo>
                  <a:pt x="8897" y="8361"/>
                  <a:pt x="8862" y="8345"/>
                  <a:pt x="8830" y="8334"/>
                </a:cubicBezTo>
                <a:cubicBezTo>
                  <a:pt x="8777" y="8316"/>
                  <a:pt x="8722" y="8355"/>
                  <a:pt x="8706" y="8359"/>
                </a:cubicBezTo>
                <a:cubicBezTo>
                  <a:pt x="8642" y="8377"/>
                  <a:pt x="8659" y="8389"/>
                  <a:pt x="8607" y="8434"/>
                </a:cubicBezTo>
                <a:cubicBezTo>
                  <a:pt x="8562" y="8473"/>
                  <a:pt x="8473" y="8544"/>
                  <a:pt x="8458" y="8607"/>
                </a:cubicBezTo>
                <a:cubicBezTo>
                  <a:pt x="8441" y="8681"/>
                  <a:pt x="8467" y="8721"/>
                  <a:pt x="8508" y="8756"/>
                </a:cubicBezTo>
                <a:cubicBezTo>
                  <a:pt x="8594" y="8830"/>
                  <a:pt x="8645" y="8830"/>
                  <a:pt x="8756" y="8830"/>
                </a:cubicBezTo>
                <a:cubicBezTo>
                  <a:pt x="8882" y="8830"/>
                  <a:pt x="8892" y="8769"/>
                  <a:pt x="8979" y="8682"/>
                </a:cubicBezTo>
                <a:cubicBezTo>
                  <a:pt x="9022" y="8639"/>
                  <a:pt x="9056" y="8565"/>
                  <a:pt x="9079" y="8508"/>
                </a:cubicBezTo>
                <a:cubicBezTo>
                  <a:pt x="9107" y="8439"/>
                  <a:pt x="9081" y="8469"/>
                  <a:pt x="9054" y="8409"/>
                </a:cubicBezTo>
                <a:cubicBezTo>
                  <a:pt x="9030" y="8354"/>
                  <a:pt x="8970" y="8338"/>
                  <a:pt x="8905" y="8334"/>
                </a:cubicBezTo>
                <a:cubicBezTo>
                  <a:pt x="8875" y="8332"/>
                  <a:pt x="8797" y="8335"/>
                  <a:pt x="8781" y="8359"/>
                </a:cubicBezTo>
                <a:cubicBezTo>
                  <a:pt x="8781" y="8384"/>
                  <a:pt x="8781" y="8392"/>
                  <a:pt x="8756" y="8384"/>
                </a:cubicBezTo>
              </a:path>
              <a:path w="8385" h="2134">
                <a:moveTo>
                  <a:pt x="9451" y="7714"/>
                </a:moveTo>
                <a:cubicBezTo>
                  <a:pt x="9451" y="7673"/>
                  <a:pt x="9468" y="7620"/>
                  <a:pt x="9426" y="7615"/>
                </a:cubicBezTo>
                <a:cubicBezTo>
                  <a:pt x="9383" y="7615"/>
                  <a:pt x="9369" y="7632"/>
                  <a:pt x="9376" y="7689"/>
                </a:cubicBezTo>
                <a:cubicBezTo>
                  <a:pt x="9351" y="7722"/>
                  <a:pt x="9339" y="7761"/>
                  <a:pt x="9401" y="7739"/>
                </a:cubicBezTo>
                <a:cubicBezTo>
                  <a:pt x="9474" y="7713"/>
                  <a:pt x="9503" y="7657"/>
                  <a:pt x="9475" y="7615"/>
                </a:cubicBezTo>
                <a:cubicBezTo>
                  <a:pt x="9374" y="7577"/>
                  <a:pt x="9330" y="7596"/>
                  <a:pt x="9302" y="7714"/>
                </a:cubicBezTo>
                <a:cubicBezTo>
                  <a:pt x="9283" y="7794"/>
                  <a:pt x="9344" y="7841"/>
                  <a:pt x="9426" y="7813"/>
                </a:cubicBezTo>
                <a:cubicBezTo>
                  <a:pt x="9536" y="7775"/>
                  <a:pt x="9545" y="7678"/>
                  <a:pt x="9525" y="7590"/>
                </a:cubicBezTo>
                <a:cubicBezTo>
                  <a:pt x="9452" y="7575"/>
                  <a:pt x="9398" y="7563"/>
                  <a:pt x="9376" y="7665"/>
                </a:cubicBezTo>
                <a:cubicBezTo>
                  <a:pt x="9356" y="7757"/>
                  <a:pt x="9404" y="7798"/>
                  <a:pt x="9500" y="7789"/>
                </a:cubicBezTo>
                <a:cubicBezTo>
                  <a:pt x="9606" y="7779"/>
                  <a:pt x="9585" y="7650"/>
                  <a:pt x="9575" y="7590"/>
                </a:cubicBezTo>
                <a:cubicBezTo>
                  <a:pt x="9467" y="7590"/>
                  <a:pt x="9428" y="7610"/>
                  <a:pt x="9376" y="7714"/>
                </a:cubicBezTo>
                <a:cubicBezTo>
                  <a:pt x="9357" y="7772"/>
                  <a:pt x="9348" y="7778"/>
                  <a:pt x="9351" y="7813"/>
                </a:cubicBezTo>
                <a:cubicBezTo>
                  <a:pt x="9447" y="7849"/>
                  <a:pt x="9534" y="7831"/>
                  <a:pt x="9575" y="7714"/>
                </a:cubicBezTo>
                <a:cubicBezTo>
                  <a:pt x="9591" y="7668"/>
                  <a:pt x="9589" y="7537"/>
                  <a:pt x="9500" y="7590"/>
                </a:cubicBezTo>
                <a:cubicBezTo>
                  <a:pt x="9442" y="7624"/>
                  <a:pt x="9426" y="7679"/>
                  <a:pt x="9426" y="7739"/>
                </a:cubicBezTo>
              </a:path>
              <a:path w="8385" h="2134">
                <a:moveTo>
                  <a:pt x="8582" y="7962"/>
                </a:moveTo>
                <a:cubicBezTo>
                  <a:pt x="8582" y="7987"/>
                  <a:pt x="8582" y="7995"/>
                  <a:pt x="8558" y="7987"/>
                </a:cubicBezTo>
              </a:path>
              <a:path w="8385" h="2134">
                <a:moveTo>
                  <a:pt x="10517" y="7392"/>
                </a:moveTo>
                <a:cubicBezTo>
                  <a:pt x="10509" y="7392"/>
                  <a:pt x="10500" y="7392"/>
                  <a:pt x="10492" y="739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1880" y="3251160"/>
            <a:ext cx="1492200" cy="677880"/>
          </a:xfrm>
          <a:custGeom>
            <a:avLst/>
            <a:gdLst/>
            <a:ahLst/>
            <a:rect l="l" t="t" r="r" b="b"/>
            <a:pathLst>
              <a:path w="4144" h="1886">
                <a:moveTo>
                  <a:pt x="6424" y="9401"/>
                </a:moveTo>
                <a:cubicBezTo>
                  <a:pt x="6409" y="9479"/>
                  <a:pt x="6360" y="9540"/>
                  <a:pt x="6350" y="9624"/>
                </a:cubicBezTo>
                <a:cubicBezTo>
                  <a:pt x="6336" y="9738"/>
                  <a:pt x="6314" y="9945"/>
                  <a:pt x="6424" y="10021"/>
                </a:cubicBezTo>
                <a:cubicBezTo>
                  <a:pt x="6532" y="10095"/>
                  <a:pt x="6749" y="9980"/>
                  <a:pt x="6821" y="9897"/>
                </a:cubicBezTo>
                <a:cubicBezTo>
                  <a:pt x="6899" y="9807"/>
                  <a:pt x="6954" y="9659"/>
                  <a:pt x="6896" y="9550"/>
                </a:cubicBezTo>
                <a:cubicBezTo>
                  <a:pt x="6888" y="9542"/>
                  <a:pt x="6879" y="9533"/>
                  <a:pt x="6871" y="9525"/>
                </a:cubicBezTo>
                <a:cubicBezTo>
                  <a:pt x="6762" y="9574"/>
                  <a:pt x="6653" y="9612"/>
                  <a:pt x="6623" y="9748"/>
                </a:cubicBezTo>
                <a:cubicBezTo>
                  <a:pt x="6616" y="9778"/>
                  <a:pt x="6597" y="10068"/>
                  <a:pt x="6672" y="10071"/>
                </a:cubicBezTo>
                <a:cubicBezTo>
                  <a:pt x="6705" y="10063"/>
                  <a:pt x="6739" y="10054"/>
                  <a:pt x="6772" y="10046"/>
                </a:cubicBezTo>
              </a:path>
              <a:path w="4144" h="1886">
                <a:moveTo>
                  <a:pt x="7888" y="9327"/>
                </a:moveTo>
                <a:cubicBezTo>
                  <a:pt x="7888" y="9268"/>
                  <a:pt x="7842" y="9463"/>
                  <a:pt x="7838" y="9475"/>
                </a:cubicBezTo>
                <a:cubicBezTo>
                  <a:pt x="7801" y="9589"/>
                  <a:pt x="7811" y="9665"/>
                  <a:pt x="7962" y="9599"/>
                </a:cubicBezTo>
                <a:cubicBezTo>
                  <a:pt x="8054" y="9559"/>
                  <a:pt x="8135" y="9491"/>
                  <a:pt x="8210" y="9426"/>
                </a:cubicBezTo>
              </a:path>
              <a:path w="4144" h="1886">
                <a:moveTo>
                  <a:pt x="8111" y="9103"/>
                </a:moveTo>
                <a:cubicBezTo>
                  <a:pt x="8086" y="9276"/>
                  <a:pt x="8084" y="9449"/>
                  <a:pt x="8062" y="9624"/>
                </a:cubicBezTo>
                <a:cubicBezTo>
                  <a:pt x="8052" y="9702"/>
                  <a:pt x="8055" y="9874"/>
                  <a:pt x="7962" y="9897"/>
                </a:cubicBezTo>
              </a:path>
              <a:path w="4144" h="1886">
                <a:moveTo>
                  <a:pt x="5283" y="9847"/>
                </a:moveTo>
                <a:cubicBezTo>
                  <a:pt x="5357" y="9833"/>
                  <a:pt x="5431" y="9812"/>
                  <a:pt x="5507" y="9798"/>
                </a:cubicBezTo>
                <a:cubicBezTo>
                  <a:pt x="5531" y="9798"/>
                  <a:pt x="5540" y="9798"/>
                  <a:pt x="5556" y="9798"/>
                </a:cubicBezTo>
              </a:path>
              <a:path w="4144" h="1886">
                <a:moveTo>
                  <a:pt x="5953" y="10120"/>
                </a:moveTo>
                <a:cubicBezTo>
                  <a:pt x="6209" y="10105"/>
                  <a:pt x="6465" y="10056"/>
                  <a:pt x="6722" y="10046"/>
                </a:cubicBezTo>
                <a:cubicBezTo>
                  <a:pt x="7144" y="10030"/>
                  <a:pt x="7566" y="10083"/>
                  <a:pt x="7987" y="10096"/>
                </a:cubicBezTo>
                <a:cubicBezTo>
                  <a:pt x="8229" y="10103"/>
                  <a:pt x="8444" y="10111"/>
                  <a:pt x="8682" y="10145"/>
                </a:cubicBezTo>
                <a:cubicBezTo>
                  <a:pt x="8723" y="10145"/>
                  <a:pt x="8731" y="10145"/>
                  <a:pt x="8756" y="10145"/>
                </a:cubicBezTo>
              </a:path>
              <a:path w="4144" h="1886">
                <a:moveTo>
                  <a:pt x="8558" y="10368"/>
                </a:moveTo>
                <a:cubicBezTo>
                  <a:pt x="8476" y="10368"/>
                  <a:pt x="8401" y="10411"/>
                  <a:pt x="8359" y="10492"/>
                </a:cubicBezTo>
                <a:cubicBezTo>
                  <a:pt x="8317" y="10574"/>
                  <a:pt x="8319" y="10661"/>
                  <a:pt x="8334" y="10740"/>
                </a:cubicBezTo>
                <a:cubicBezTo>
                  <a:pt x="8473" y="10768"/>
                  <a:pt x="8606" y="10676"/>
                  <a:pt x="8682" y="10542"/>
                </a:cubicBezTo>
                <a:cubicBezTo>
                  <a:pt x="8723" y="10418"/>
                  <a:pt x="8748" y="10393"/>
                  <a:pt x="8706" y="10319"/>
                </a:cubicBezTo>
                <a:cubicBezTo>
                  <a:pt x="8599" y="10286"/>
                  <a:pt x="8493" y="10255"/>
                  <a:pt x="8384" y="10294"/>
                </a:cubicBezTo>
                <a:cubicBezTo>
                  <a:pt x="8376" y="10302"/>
                  <a:pt x="8367" y="10311"/>
                  <a:pt x="8359" y="10319"/>
                </a:cubicBezTo>
              </a:path>
              <a:path w="4144" h="1886">
                <a:moveTo>
                  <a:pt x="8954" y="9103"/>
                </a:moveTo>
                <a:cubicBezTo>
                  <a:pt x="8974" y="9077"/>
                  <a:pt x="8979" y="9009"/>
                  <a:pt x="8979" y="9054"/>
                </a:cubicBezTo>
                <a:cubicBezTo>
                  <a:pt x="8990" y="9323"/>
                  <a:pt x="8991" y="9578"/>
                  <a:pt x="8979" y="9847"/>
                </a:cubicBezTo>
                <a:cubicBezTo>
                  <a:pt x="8975" y="9942"/>
                  <a:pt x="8976" y="10089"/>
                  <a:pt x="9004" y="10145"/>
                </a:cubicBezTo>
                <a:cubicBezTo>
                  <a:pt x="9004" y="10153"/>
                  <a:pt x="9004" y="10162"/>
                  <a:pt x="9004" y="10170"/>
                </a:cubicBezTo>
              </a:path>
              <a:path w="4144" h="1886">
                <a:moveTo>
                  <a:pt x="9128" y="10393"/>
                </a:moveTo>
                <a:cubicBezTo>
                  <a:pt x="9110" y="10465"/>
                  <a:pt x="9030" y="10519"/>
                  <a:pt x="9004" y="10592"/>
                </a:cubicBezTo>
                <a:cubicBezTo>
                  <a:pt x="8966" y="10701"/>
                  <a:pt x="8963" y="10784"/>
                  <a:pt x="8979" y="10889"/>
                </a:cubicBezTo>
                <a:cubicBezTo>
                  <a:pt x="9131" y="10935"/>
                  <a:pt x="9256" y="10881"/>
                  <a:pt x="9351" y="10740"/>
                </a:cubicBezTo>
                <a:cubicBezTo>
                  <a:pt x="9416" y="10644"/>
                  <a:pt x="9418" y="10527"/>
                  <a:pt x="9426" y="10418"/>
                </a:cubicBezTo>
                <a:cubicBezTo>
                  <a:pt x="9326" y="10378"/>
                  <a:pt x="9184" y="10348"/>
                  <a:pt x="9079" y="10393"/>
                </a:cubicBezTo>
                <a:cubicBezTo>
                  <a:pt x="9054" y="10403"/>
                  <a:pt x="8988" y="10494"/>
                  <a:pt x="8979" y="10418"/>
                </a:cubicBezTo>
                <a:cubicBezTo>
                  <a:pt x="8979" y="10410"/>
                  <a:pt x="8979" y="10401"/>
                  <a:pt x="8979" y="1039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05640" y="2170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850" y="6028"/>
                </a:moveTo>
                <a:lnTo>
                  <a:pt x="15850" y="6028"/>
                </a:lnTo>
              </a:path>
              <a:path w="1" h="1">
                <a:moveTo>
                  <a:pt x="15850" y="6028"/>
                </a:moveTo>
                <a:lnTo>
                  <a:pt x="15850" y="6028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56160" y="4419720"/>
            <a:ext cx="1768680" cy="2349360"/>
          </a:xfrm>
          <a:custGeom>
            <a:avLst/>
            <a:gdLst/>
            <a:ahLst/>
            <a:rect l="l" t="t" r="r" b="b"/>
            <a:pathLst>
              <a:path w="4912" h="6525">
                <a:moveTo>
                  <a:pt x="17016" y="13593"/>
                </a:moveTo>
                <a:cubicBezTo>
                  <a:pt x="17051" y="13584"/>
                  <a:pt x="17095" y="13542"/>
                  <a:pt x="17090" y="13494"/>
                </a:cubicBezTo>
                <a:cubicBezTo>
                  <a:pt x="17080" y="13408"/>
                  <a:pt x="16991" y="13301"/>
                  <a:pt x="16892" y="13320"/>
                </a:cubicBezTo>
                <a:cubicBezTo>
                  <a:pt x="16737" y="13349"/>
                  <a:pt x="16630" y="13456"/>
                  <a:pt x="16644" y="13593"/>
                </a:cubicBezTo>
                <a:cubicBezTo>
                  <a:pt x="16741" y="13638"/>
                  <a:pt x="16899" y="13701"/>
                  <a:pt x="16991" y="13593"/>
                </a:cubicBezTo>
                <a:cubicBezTo>
                  <a:pt x="17014" y="13526"/>
                  <a:pt x="17019" y="13508"/>
                  <a:pt x="17041" y="13469"/>
                </a:cubicBezTo>
                <a:cubicBezTo>
                  <a:pt x="17041" y="13580"/>
                  <a:pt x="17035" y="13708"/>
                  <a:pt x="17016" y="13816"/>
                </a:cubicBezTo>
                <a:cubicBezTo>
                  <a:pt x="17005" y="13878"/>
                  <a:pt x="16978" y="13892"/>
                  <a:pt x="16966" y="13940"/>
                </a:cubicBezTo>
              </a:path>
              <a:path w="4912" h="6525">
                <a:moveTo>
                  <a:pt x="17289" y="13742"/>
                </a:moveTo>
                <a:lnTo>
                  <a:pt x="17289" y="13742"/>
                </a:lnTo>
              </a:path>
              <a:path w="4912" h="6525">
                <a:moveTo>
                  <a:pt x="17636" y="13295"/>
                </a:moveTo>
                <a:cubicBezTo>
                  <a:pt x="17739" y="13286"/>
                  <a:pt x="17854" y="13325"/>
                  <a:pt x="17859" y="13469"/>
                </a:cubicBezTo>
                <a:cubicBezTo>
                  <a:pt x="17864" y="13614"/>
                  <a:pt x="17737" y="13699"/>
                  <a:pt x="17611" y="13717"/>
                </a:cubicBezTo>
                <a:cubicBezTo>
                  <a:pt x="17515" y="13717"/>
                  <a:pt x="17485" y="13719"/>
                  <a:pt x="17438" y="13667"/>
                </a:cubicBezTo>
                <a:cubicBezTo>
                  <a:pt x="17493" y="13593"/>
                  <a:pt x="17559" y="13509"/>
                  <a:pt x="17661" y="13568"/>
                </a:cubicBezTo>
                <a:cubicBezTo>
                  <a:pt x="17719" y="13602"/>
                  <a:pt x="17808" y="13733"/>
                  <a:pt x="17835" y="13791"/>
                </a:cubicBezTo>
                <a:cubicBezTo>
                  <a:pt x="17835" y="13816"/>
                  <a:pt x="17835" y="13824"/>
                  <a:pt x="17835" y="13791"/>
                </a:cubicBezTo>
              </a:path>
              <a:path w="4912" h="6525">
                <a:moveTo>
                  <a:pt x="18355" y="13295"/>
                </a:moveTo>
                <a:cubicBezTo>
                  <a:pt x="18334" y="13274"/>
                  <a:pt x="18191" y="13226"/>
                  <a:pt x="18132" y="13246"/>
                </a:cubicBezTo>
                <a:cubicBezTo>
                  <a:pt x="18104" y="13255"/>
                  <a:pt x="18053" y="13404"/>
                  <a:pt x="18033" y="13444"/>
                </a:cubicBezTo>
                <a:cubicBezTo>
                  <a:pt x="18025" y="13461"/>
                  <a:pt x="18016" y="13477"/>
                  <a:pt x="18008" y="13494"/>
                </a:cubicBezTo>
                <a:cubicBezTo>
                  <a:pt x="18105" y="13494"/>
                  <a:pt x="18243" y="13472"/>
                  <a:pt x="18331" y="13519"/>
                </a:cubicBezTo>
                <a:cubicBezTo>
                  <a:pt x="18407" y="13560"/>
                  <a:pt x="18485" y="13716"/>
                  <a:pt x="18405" y="13791"/>
                </a:cubicBezTo>
                <a:cubicBezTo>
                  <a:pt x="18296" y="13894"/>
                  <a:pt x="18119" y="13771"/>
                  <a:pt x="18033" y="13717"/>
                </a:cubicBezTo>
              </a:path>
              <a:path w="4912" h="6525">
                <a:moveTo>
                  <a:pt x="16669" y="13891"/>
                </a:moveTo>
                <a:cubicBezTo>
                  <a:pt x="16642" y="13929"/>
                  <a:pt x="16612" y="13967"/>
                  <a:pt x="16594" y="13990"/>
                </a:cubicBezTo>
                <a:cubicBezTo>
                  <a:pt x="16588" y="13913"/>
                  <a:pt x="16572" y="13844"/>
                  <a:pt x="16570" y="13767"/>
                </a:cubicBezTo>
                <a:cubicBezTo>
                  <a:pt x="16566" y="13605"/>
                  <a:pt x="16577" y="13453"/>
                  <a:pt x="16594" y="13295"/>
                </a:cubicBezTo>
                <a:cubicBezTo>
                  <a:pt x="16599" y="13252"/>
                  <a:pt x="16617" y="13181"/>
                  <a:pt x="16619" y="13171"/>
                </a:cubicBezTo>
                <a:cubicBezTo>
                  <a:pt x="16632" y="13108"/>
                  <a:pt x="16615" y="13125"/>
                  <a:pt x="16694" y="13122"/>
                </a:cubicBezTo>
                <a:cubicBezTo>
                  <a:pt x="16969" y="13112"/>
                  <a:pt x="17266" y="13099"/>
                  <a:pt x="17537" y="13146"/>
                </a:cubicBezTo>
                <a:cubicBezTo>
                  <a:pt x="17830" y="13197"/>
                  <a:pt x="18079" y="13271"/>
                  <a:pt x="18380" y="13271"/>
                </a:cubicBezTo>
                <a:cubicBezTo>
                  <a:pt x="18458" y="13271"/>
                  <a:pt x="18475" y="13256"/>
                  <a:pt x="18504" y="13295"/>
                </a:cubicBezTo>
              </a:path>
              <a:path w="4912" h="6525">
                <a:moveTo>
                  <a:pt x="15255" y="13444"/>
                </a:moveTo>
                <a:cubicBezTo>
                  <a:pt x="15344" y="13474"/>
                  <a:pt x="15164" y="13620"/>
                  <a:pt x="15156" y="13692"/>
                </a:cubicBezTo>
                <a:cubicBezTo>
                  <a:pt x="15138" y="13851"/>
                  <a:pt x="15245" y="13912"/>
                  <a:pt x="15379" y="13866"/>
                </a:cubicBezTo>
                <a:cubicBezTo>
                  <a:pt x="15572" y="13799"/>
                  <a:pt x="15562" y="13693"/>
                  <a:pt x="15503" y="13543"/>
                </a:cubicBezTo>
                <a:cubicBezTo>
                  <a:pt x="15481" y="13487"/>
                  <a:pt x="15470" y="13426"/>
                  <a:pt x="15404" y="13419"/>
                </a:cubicBezTo>
                <a:cubicBezTo>
                  <a:pt x="15396" y="13419"/>
                  <a:pt x="15387" y="13419"/>
                  <a:pt x="15379" y="13419"/>
                </a:cubicBezTo>
              </a:path>
              <a:path w="4912" h="6525">
                <a:moveTo>
                  <a:pt x="15801" y="13841"/>
                </a:moveTo>
                <a:cubicBezTo>
                  <a:pt x="15829" y="13841"/>
                  <a:pt x="15839" y="13838"/>
                  <a:pt x="15850" y="13816"/>
                </a:cubicBezTo>
              </a:path>
              <a:path w="4912" h="6525">
                <a:moveTo>
                  <a:pt x="15925" y="13271"/>
                </a:moveTo>
                <a:cubicBezTo>
                  <a:pt x="15925" y="13351"/>
                  <a:pt x="15870" y="13454"/>
                  <a:pt x="15875" y="13519"/>
                </a:cubicBezTo>
                <a:cubicBezTo>
                  <a:pt x="15884" y="13645"/>
                  <a:pt x="16111" y="13587"/>
                  <a:pt x="16173" y="13568"/>
                </a:cubicBezTo>
                <a:cubicBezTo>
                  <a:pt x="16239" y="13548"/>
                  <a:pt x="16222" y="13527"/>
                  <a:pt x="16222" y="13469"/>
                </a:cubicBezTo>
              </a:path>
              <a:path w="4912" h="6525">
                <a:moveTo>
                  <a:pt x="16197" y="13146"/>
                </a:moveTo>
                <a:cubicBezTo>
                  <a:pt x="16197" y="13300"/>
                  <a:pt x="16198" y="13467"/>
                  <a:pt x="16173" y="13618"/>
                </a:cubicBezTo>
                <a:cubicBezTo>
                  <a:pt x="16163" y="13677"/>
                  <a:pt x="16148" y="13689"/>
                  <a:pt x="16148" y="13742"/>
                </a:cubicBezTo>
              </a:path>
              <a:path w="4912" h="6525">
                <a:moveTo>
                  <a:pt x="15751" y="13791"/>
                </a:moveTo>
                <a:cubicBezTo>
                  <a:pt x="15696" y="13846"/>
                  <a:pt x="15808" y="13900"/>
                  <a:pt x="15875" y="13915"/>
                </a:cubicBezTo>
                <a:cubicBezTo>
                  <a:pt x="16058" y="13957"/>
                  <a:pt x="16233" y="13959"/>
                  <a:pt x="16396" y="13866"/>
                </a:cubicBezTo>
                <a:cubicBezTo>
                  <a:pt x="16456" y="13832"/>
                  <a:pt x="16481" y="13821"/>
                  <a:pt x="16495" y="13767"/>
                </a:cubicBezTo>
              </a:path>
              <a:path w="4912" h="6525">
                <a:moveTo>
                  <a:pt x="17338" y="13767"/>
                </a:moveTo>
                <a:cubicBezTo>
                  <a:pt x="17396" y="13785"/>
                  <a:pt x="17371" y="13857"/>
                  <a:pt x="17388" y="13915"/>
                </a:cubicBezTo>
                <a:cubicBezTo>
                  <a:pt x="17417" y="14017"/>
                  <a:pt x="17540" y="14077"/>
                  <a:pt x="17636" y="14089"/>
                </a:cubicBezTo>
                <a:cubicBezTo>
                  <a:pt x="17737" y="14102"/>
                  <a:pt x="17900" y="14063"/>
                  <a:pt x="17959" y="13965"/>
                </a:cubicBezTo>
                <a:cubicBezTo>
                  <a:pt x="17959" y="13940"/>
                  <a:pt x="17959" y="13932"/>
                  <a:pt x="17983" y="13940"/>
                </a:cubicBezTo>
                <a:cubicBezTo>
                  <a:pt x="17972" y="13905"/>
                  <a:pt x="17959" y="13899"/>
                  <a:pt x="17959" y="13841"/>
                </a:cubicBezTo>
                <a:cubicBezTo>
                  <a:pt x="17934" y="13854"/>
                  <a:pt x="17959" y="13879"/>
                  <a:pt x="17959" y="13791"/>
                </a:cubicBezTo>
              </a:path>
              <a:path w="4912" h="6525">
                <a:moveTo>
                  <a:pt x="18058" y="13047"/>
                </a:moveTo>
                <a:cubicBezTo>
                  <a:pt x="18053" y="13031"/>
                  <a:pt x="18035" y="12986"/>
                  <a:pt x="18008" y="12973"/>
                </a:cubicBezTo>
                <a:cubicBezTo>
                  <a:pt x="17977" y="12958"/>
                  <a:pt x="17979" y="13009"/>
                  <a:pt x="17959" y="13022"/>
                </a:cubicBezTo>
                <a:cubicBezTo>
                  <a:pt x="17999" y="13012"/>
                  <a:pt x="17998" y="13013"/>
                  <a:pt x="18008" y="12973"/>
                </a:cubicBezTo>
                <a:cubicBezTo>
                  <a:pt x="17958" y="12986"/>
                  <a:pt x="17963" y="12997"/>
                  <a:pt x="17934" y="13047"/>
                </a:cubicBezTo>
              </a:path>
              <a:path w="4912" h="6525">
                <a:moveTo>
                  <a:pt x="16942" y="12378"/>
                </a:moveTo>
                <a:cubicBezTo>
                  <a:pt x="16963" y="12292"/>
                  <a:pt x="16960" y="12374"/>
                  <a:pt x="16991" y="12353"/>
                </a:cubicBezTo>
                <a:cubicBezTo>
                  <a:pt x="17009" y="12341"/>
                  <a:pt x="17127" y="12221"/>
                  <a:pt x="17165" y="12278"/>
                </a:cubicBezTo>
                <a:cubicBezTo>
                  <a:pt x="17257" y="12417"/>
                  <a:pt x="17081" y="12592"/>
                  <a:pt x="16991" y="12675"/>
                </a:cubicBezTo>
                <a:cubicBezTo>
                  <a:pt x="16918" y="12742"/>
                  <a:pt x="16881" y="12760"/>
                  <a:pt x="16793" y="12774"/>
                </a:cubicBezTo>
                <a:cubicBezTo>
                  <a:pt x="16766" y="12669"/>
                  <a:pt x="16804" y="12635"/>
                  <a:pt x="16917" y="12626"/>
                </a:cubicBezTo>
                <a:cubicBezTo>
                  <a:pt x="16996" y="12620"/>
                  <a:pt x="17043" y="12657"/>
                  <a:pt x="17066" y="12725"/>
                </a:cubicBezTo>
                <a:cubicBezTo>
                  <a:pt x="17066" y="12733"/>
                  <a:pt x="17066" y="12742"/>
                  <a:pt x="17066" y="12750"/>
                </a:cubicBezTo>
              </a:path>
              <a:path w="4912" h="6525">
                <a:moveTo>
                  <a:pt x="16570" y="14188"/>
                </a:moveTo>
                <a:cubicBezTo>
                  <a:pt x="16639" y="14182"/>
                  <a:pt x="16700" y="14171"/>
                  <a:pt x="16768" y="14163"/>
                </a:cubicBezTo>
              </a:path>
              <a:path w="4912" h="6525">
                <a:moveTo>
                  <a:pt x="17214" y="14015"/>
                </a:moveTo>
                <a:cubicBezTo>
                  <a:pt x="17117" y="14015"/>
                  <a:pt x="17077" y="14013"/>
                  <a:pt x="16991" y="14064"/>
                </a:cubicBezTo>
                <a:cubicBezTo>
                  <a:pt x="16926" y="14108"/>
                  <a:pt x="16907" y="14114"/>
                  <a:pt x="16892" y="14163"/>
                </a:cubicBezTo>
                <a:cubicBezTo>
                  <a:pt x="16915" y="14202"/>
                  <a:pt x="17057" y="14283"/>
                  <a:pt x="17066" y="14337"/>
                </a:cubicBezTo>
                <a:cubicBezTo>
                  <a:pt x="17058" y="14354"/>
                  <a:pt x="17049" y="14370"/>
                  <a:pt x="17041" y="14387"/>
                </a:cubicBezTo>
                <a:cubicBezTo>
                  <a:pt x="17000" y="14405"/>
                  <a:pt x="16877" y="14449"/>
                  <a:pt x="16867" y="14387"/>
                </a:cubicBezTo>
                <a:cubicBezTo>
                  <a:pt x="16851" y="14285"/>
                  <a:pt x="16975" y="14222"/>
                  <a:pt x="17016" y="14139"/>
                </a:cubicBezTo>
                <a:cubicBezTo>
                  <a:pt x="17016" y="14131"/>
                  <a:pt x="17016" y="14122"/>
                  <a:pt x="17016" y="14114"/>
                </a:cubicBezTo>
              </a:path>
              <a:path w="4912" h="6525">
                <a:moveTo>
                  <a:pt x="16619" y="14560"/>
                </a:moveTo>
                <a:cubicBezTo>
                  <a:pt x="16744" y="14614"/>
                  <a:pt x="16866" y="14550"/>
                  <a:pt x="16991" y="14511"/>
                </a:cubicBezTo>
                <a:cubicBezTo>
                  <a:pt x="17030" y="14499"/>
                  <a:pt x="17218" y="14397"/>
                  <a:pt x="17239" y="14461"/>
                </a:cubicBezTo>
              </a:path>
              <a:path w="4912" h="6525">
                <a:moveTo>
                  <a:pt x="16966" y="14784"/>
                </a:moveTo>
                <a:cubicBezTo>
                  <a:pt x="16966" y="14871"/>
                  <a:pt x="16928" y="14947"/>
                  <a:pt x="16917" y="15032"/>
                </a:cubicBezTo>
                <a:cubicBezTo>
                  <a:pt x="16917" y="15100"/>
                  <a:pt x="16920" y="15119"/>
                  <a:pt x="16892" y="15156"/>
                </a:cubicBezTo>
              </a:path>
              <a:path w="4912" h="6525">
                <a:moveTo>
                  <a:pt x="17587" y="14064"/>
                </a:moveTo>
                <a:cubicBezTo>
                  <a:pt x="17609" y="14041"/>
                  <a:pt x="17614" y="14033"/>
                  <a:pt x="17636" y="14039"/>
                </a:cubicBezTo>
                <a:cubicBezTo>
                  <a:pt x="17624" y="14124"/>
                  <a:pt x="17593" y="14203"/>
                  <a:pt x="17587" y="14288"/>
                </a:cubicBezTo>
                <a:cubicBezTo>
                  <a:pt x="17587" y="14296"/>
                  <a:pt x="17587" y="14304"/>
                  <a:pt x="17587" y="14312"/>
                </a:cubicBezTo>
              </a:path>
              <a:path w="4912" h="6525">
                <a:moveTo>
                  <a:pt x="17363" y="14660"/>
                </a:moveTo>
                <a:cubicBezTo>
                  <a:pt x="17381" y="14713"/>
                  <a:pt x="17438" y="14677"/>
                  <a:pt x="17487" y="14660"/>
                </a:cubicBezTo>
                <a:cubicBezTo>
                  <a:pt x="17530" y="14645"/>
                  <a:pt x="17655" y="14628"/>
                  <a:pt x="17661" y="14684"/>
                </a:cubicBezTo>
                <a:cubicBezTo>
                  <a:pt x="17678" y="14832"/>
                  <a:pt x="17543" y="14912"/>
                  <a:pt x="17462" y="15007"/>
                </a:cubicBezTo>
                <a:cubicBezTo>
                  <a:pt x="17416" y="15076"/>
                  <a:pt x="17404" y="15096"/>
                  <a:pt x="17363" y="15131"/>
                </a:cubicBezTo>
                <a:cubicBezTo>
                  <a:pt x="17424" y="15116"/>
                  <a:pt x="17492" y="15089"/>
                  <a:pt x="17562" y="15081"/>
                </a:cubicBezTo>
                <a:cubicBezTo>
                  <a:pt x="17632" y="15073"/>
                  <a:pt x="17710" y="15131"/>
                  <a:pt x="17760" y="15081"/>
                </a:cubicBezTo>
                <a:cubicBezTo>
                  <a:pt x="17760" y="15073"/>
                  <a:pt x="17760" y="15064"/>
                  <a:pt x="17760" y="15056"/>
                </a:cubicBezTo>
              </a:path>
              <a:path w="4912" h="6525">
                <a:moveTo>
                  <a:pt x="17611" y="12402"/>
                </a:moveTo>
                <a:cubicBezTo>
                  <a:pt x="17594" y="12350"/>
                  <a:pt x="17572" y="12412"/>
                  <a:pt x="17537" y="12452"/>
                </a:cubicBezTo>
                <a:cubicBezTo>
                  <a:pt x="17576" y="12356"/>
                  <a:pt x="17677" y="12312"/>
                  <a:pt x="17785" y="12328"/>
                </a:cubicBezTo>
                <a:cubicBezTo>
                  <a:pt x="17793" y="12336"/>
                  <a:pt x="17802" y="12345"/>
                  <a:pt x="17810" y="12353"/>
                </a:cubicBezTo>
                <a:cubicBezTo>
                  <a:pt x="17799" y="12492"/>
                  <a:pt x="17775" y="12583"/>
                  <a:pt x="17661" y="12675"/>
                </a:cubicBezTo>
                <a:cubicBezTo>
                  <a:pt x="17613" y="12713"/>
                  <a:pt x="17599" y="12711"/>
                  <a:pt x="17587" y="12675"/>
                </a:cubicBezTo>
                <a:cubicBezTo>
                  <a:pt x="17714" y="12646"/>
                  <a:pt x="17793" y="12726"/>
                  <a:pt x="17760" y="12874"/>
                </a:cubicBezTo>
                <a:cubicBezTo>
                  <a:pt x="17731" y="13006"/>
                  <a:pt x="17539" y="13098"/>
                  <a:pt x="17413" y="13047"/>
                </a:cubicBezTo>
                <a:cubicBezTo>
                  <a:pt x="17405" y="13031"/>
                  <a:pt x="17396" y="13014"/>
                  <a:pt x="17388" y="12998"/>
                </a:cubicBezTo>
              </a:path>
              <a:path w="4912" h="6525">
                <a:moveTo>
                  <a:pt x="17190" y="15329"/>
                </a:moveTo>
                <a:cubicBezTo>
                  <a:pt x="17190" y="15430"/>
                  <a:pt x="17172" y="15531"/>
                  <a:pt x="17140" y="15627"/>
                </a:cubicBezTo>
                <a:cubicBezTo>
                  <a:pt x="17132" y="15644"/>
                  <a:pt x="17123" y="15660"/>
                  <a:pt x="17115" y="15677"/>
                </a:cubicBezTo>
              </a:path>
              <a:path w="4912" h="6525">
                <a:moveTo>
                  <a:pt x="17562" y="15280"/>
                </a:moveTo>
                <a:cubicBezTo>
                  <a:pt x="17659" y="15267"/>
                  <a:pt x="17830" y="15247"/>
                  <a:pt x="17835" y="15404"/>
                </a:cubicBezTo>
                <a:cubicBezTo>
                  <a:pt x="17839" y="15531"/>
                  <a:pt x="17685" y="15649"/>
                  <a:pt x="17562" y="15602"/>
                </a:cubicBezTo>
                <a:cubicBezTo>
                  <a:pt x="17523" y="15564"/>
                  <a:pt x="17506" y="15562"/>
                  <a:pt x="17512" y="15528"/>
                </a:cubicBezTo>
                <a:cubicBezTo>
                  <a:pt x="17542" y="15510"/>
                  <a:pt x="17750" y="15413"/>
                  <a:pt x="17735" y="15528"/>
                </a:cubicBezTo>
                <a:cubicBezTo>
                  <a:pt x="17727" y="15544"/>
                  <a:pt x="17719" y="15561"/>
                  <a:pt x="17711" y="15577"/>
                </a:cubicBezTo>
              </a:path>
              <a:path w="4912" h="6525">
                <a:moveTo>
                  <a:pt x="16743" y="15602"/>
                </a:moveTo>
                <a:cubicBezTo>
                  <a:pt x="16839" y="15580"/>
                  <a:pt x="16916" y="15577"/>
                  <a:pt x="17016" y="15577"/>
                </a:cubicBezTo>
              </a:path>
              <a:path w="4912" h="6525">
                <a:moveTo>
                  <a:pt x="16867" y="15801"/>
                </a:moveTo>
                <a:cubicBezTo>
                  <a:pt x="17091" y="15778"/>
                  <a:pt x="17313" y="15767"/>
                  <a:pt x="17537" y="15751"/>
                </a:cubicBezTo>
                <a:cubicBezTo>
                  <a:pt x="17661" y="15742"/>
                  <a:pt x="17983" y="15726"/>
                  <a:pt x="17859" y="15726"/>
                </a:cubicBezTo>
              </a:path>
              <a:path w="4912" h="6525">
                <a:moveTo>
                  <a:pt x="17735" y="15850"/>
                </a:moveTo>
                <a:cubicBezTo>
                  <a:pt x="17703" y="15994"/>
                  <a:pt x="17592" y="16028"/>
                  <a:pt x="17512" y="16148"/>
                </a:cubicBezTo>
                <a:cubicBezTo>
                  <a:pt x="17493" y="16205"/>
                  <a:pt x="17484" y="16212"/>
                  <a:pt x="17487" y="16247"/>
                </a:cubicBezTo>
                <a:cubicBezTo>
                  <a:pt x="17627" y="16236"/>
                  <a:pt x="17766" y="16218"/>
                  <a:pt x="17859" y="16098"/>
                </a:cubicBezTo>
                <a:cubicBezTo>
                  <a:pt x="17973" y="15952"/>
                  <a:pt x="17894" y="15918"/>
                  <a:pt x="17785" y="15850"/>
                </a:cubicBezTo>
                <a:cubicBezTo>
                  <a:pt x="17777" y="15842"/>
                  <a:pt x="17768" y="15833"/>
                  <a:pt x="17760" y="15825"/>
                </a:cubicBezTo>
              </a:path>
              <a:path w="4912" h="6525">
                <a:moveTo>
                  <a:pt x="18231" y="14238"/>
                </a:moveTo>
                <a:cubicBezTo>
                  <a:pt x="18231" y="14205"/>
                  <a:pt x="18231" y="14172"/>
                  <a:pt x="18231" y="14139"/>
                </a:cubicBezTo>
                <a:cubicBezTo>
                  <a:pt x="18231" y="14027"/>
                  <a:pt x="18234" y="14177"/>
                  <a:pt x="18231" y="14213"/>
                </a:cubicBezTo>
                <a:cubicBezTo>
                  <a:pt x="18207" y="14527"/>
                  <a:pt x="18195" y="14842"/>
                  <a:pt x="18182" y="15156"/>
                </a:cubicBezTo>
                <a:cubicBezTo>
                  <a:pt x="18178" y="15260"/>
                  <a:pt x="18157" y="15354"/>
                  <a:pt x="18157" y="15453"/>
                </a:cubicBezTo>
              </a:path>
              <a:path w="4912" h="6525">
                <a:moveTo>
                  <a:pt x="18331" y="15776"/>
                </a:moveTo>
                <a:cubicBezTo>
                  <a:pt x="18394" y="15754"/>
                  <a:pt x="18273" y="15769"/>
                  <a:pt x="18207" y="15776"/>
                </a:cubicBezTo>
                <a:cubicBezTo>
                  <a:pt x="18120" y="15785"/>
                  <a:pt x="18099" y="15755"/>
                  <a:pt x="18058" y="15825"/>
                </a:cubicBezTo>
                <a:cubicBezTo>
                  <a:pt x="18033" y="15875"/>
                  <a:pt x="18025" y="15892"/>
                  <a:pt x="18008" y="15925"/>
                </a:cubicBezTo>
                <a:cubicBezTo>
                  <a:pt x="18100" y="15910"/>
                  <a:pt x="18187" y="15863"/>
                  <a:pt x="18281" y="15850"/>
                </a:cubicBezTo>
                <a:cubicBezTo>
                  <a:pt x="18393" y="15835"/>
                  <a:pt x="18502" y="15913"/>
                  <a:pt x="18455" y="16024"/>
                </a:cubicBezTo>
                <a:cubicBezTo>
                  <a:pt x="18398" y="16158"/>
                  <a:pt x="18251" y="16235"/>
                  <a:pt x="18107" y="16197"/>
                </a:cubicBezTo>
                <a:cubicBezTo>
                  <a:pt x="18028" y="16145"/>
                  <a:pt x="18000" y="16125"/>
                  <a:pt x="17959" y="16073"/>
                </a:cubicBezTo>
              </a:path>
              <a:path w="4912" h="6525">
                <a:moveTo>
                  <a:pt x="18281" y="12526"/>
                </a:moveTo>
                <a:cubicBezTo>
                  <a:pt x="18281" y="12485"/>
                  <a:pt x="18281" y="12443"/>
                  <a:pt x="18281" y="12402"/>
                </a:cubicBezTo>
                <a:cubicBezTo>
                  <a:pt x="18307" y="12466"/>
                  <a:pt x="18258" y="12610"/>
                  <a:pt x="18256" y="12700"/>
                </a:cubicBezTo>
                <a:cubicBezTo>
                  <a:pt x="18253" y="12797"/>
                  <a:pt x="18280" y="12826"/>
                  <a:pt x="18256" y="12898"/>
                </a:cubicBezTo>
                <a:cubicBezTo>
                  <a:pt x="18245" y="12929"/>
                  <a:pt x="18238" y="12965"/>
                  <a:pt x="18231" y="12998"/>
                </a:cubicBezTo>
              </a:path>
              <a:path w="4912" h="6525">
                <a:moveTo>
                  <a:pt x="18132" y="16098"/>
                </a:moveTo>
                <a:cubicBezTo>
                  <a:pt x="18102" y="16187"/>
                  <a:pt x="18127" y="16215"/>
                  <a:pt x="18132" y="16297"/>
                </a:cubicBezTo>
                <a:cubicBezTo>
                  <a:pt x="18136" y="16365"/>
                  <a:pt x="18123" y="16384"/>
                  <a:pt x="18107" y="16446"/>
                </a:cubicBezTo>
                <a:cubicBezTo>
                  <a:pt x="18107" y="16454"/>
                  <a:pt x="18107" y="16462"/>
                  <a:pt x="18107" y="16470"/>
                </a:cubicBezTo>
                <a:cubicBezTo>
                  <a:pt x="18190" y="16470"/>
                  <a:pt x="18272" y="16470"/>
                  <a:pt x="18355" y="16470"/>
                </a:cubicBezTo>
              </a:path>
              <a:path w="4912" h="6525">
                <a:moveTo>
                  <a:pt x="18380" y="16247"/>
                </a:moveTo>
                <a:cubicBezTo>
                  <a:pt x="18380" y="16343"/>
                  <a:pt x="18344" y="16428"/>
                  <a:pt x="18331" y="16520"/>
                </a:cubicBezTo>
                <a:cubicBezTo>
                  <a:pt x="18331" y="16581"/>
                  <a:pt x="18340" y="16597"/>
                  <a:pt x="18306" y="16619"/>
                </a:cubicBezTo>
              </a:path>
              <a:path w="4912" h="6525">
                <a:moveTo>
                  <a:pt x="17859" y="16768"/>
                </a:moveTo>
                <a:cubicBezTo>
                  <a:pt x="17961" y="16768"/>
                  <a:pt x="18082" y="16756"/>
                  <a:pt x="18182" y="16743"/>
                </a:cubicBezTo>
                <a:cubicBezTo>
                  <a:pt x="18292" y="16729"/>
                  <a:pt x="18393" y="16694"/>
                  <a:pt x="18504" y="16694"/>
                </a:cubicBezTo>
                <a:cubicBezTo>
                  <a:pt x="18512" y="16694"/>
                  <a:pt x="18521" y="16694"/>
                  <a:pt x="18529" y="16694"/>
                </a:cubicBezTo>
              </a:path>
              <a:path w="4912" h="6525">
                <a:moveTo>
                  <a:pt x="18331" y="16892"/>
                </a:moveTo>
                <a:cubicBezTo>
                  <a:pt x="18303" y="16974"/>
                  <a:pt x="18279" y="17055"/>
                  <a:pt x="18256" y="17140"/>
                </a:cubicBezTo>
                <a:cubicBezTo>
                  <a:pt x="18234" y="17221"/>
                  <a:pt x="18224" y="17183"/>
                  <a:pt x="18256" y="17140"/>
                </a:cubicBezTo>
              </a:path>
              <a:path w="4912" h="6525">
                <a:moveTo>
                  <a:pt x="18802" y="13618"/>
                </a:moveTo>
                <a:cubicBezTo>
                  <a:pt x="18802" y="13567"/>
                  <a:pt x="18818" y="13532"/>
                  <a:pt x="18777" y="13519"/>
                </a:cubicBezTo>
                <a:cubicBezTo>
                  <a:pt x="18682" y="13557"/>
                  <a:pt x="18622" y="13714"/>
                  <a:pt x="18604" y="13816"/>
                </a:cubicBezTo>
                <a:cubicBezTo>
                  <a:pt x="18604" y="13925"/>
                  <a:pt x="18599" y="13952"/>
                  <a:pt x="18628" y="14015"/>
                </a:cubicBezTo>
                <a:cubicBezTo>
                  <a:pt x="18814" y="13984"/>
                  <a:pt x="18866" y="13879"/>
                  <a:pt x="18901" y="13692"/>
                </a:cubicBezTo>
                <a:cubicBezTo>
                  <a:pt x="18929" y="13541"/>
                  <a:pt x="18830" y="13562"/>
                  <a:pt x="18728" y="13593"/>
                </a:cubicBezTo>
              </a:path>
              <a:path w="4912" h="6525">
                <a:moveTo>
                  <a:pt x="18678" y="14089"/>
                </a:moveTo>
                <a:cubicBezTo>
                  <a:pt x="18696" y="14142"/>
                  <a:pt x="18716" y="14127"/>
                  <a:pt x="18703" y="14263"/>
                </a:cubicBezTo>
                <a:cubicBezTo>
                  <a:pt x="18679" y="14510"/>
                  <a:pt x="18640" y="14761"/>
                  <a:pt x="18604" y="15007"/>
                </a:cubicBezTo>
                <a:cubicBezTo>
                  <a:pt x="18577" y="15193"/>
                  <a:pt x="18498" y="15365"/>
                  <a:pt x="18479" y="15553"/>
                </a:cubicBezTo>
                <a:cubicBezTo>
                  <a:pt x="18469" y="15651"/>
                  <a:pt x="18460" y="15754"/>
                  <a:pt x="18455" y="15850"/>
                </a:cubicBezTo>
                <a:cubicBezTo>
                  <a:pt x="18450" y="15941"/>
                  <a:pt x="18465" y="16014"/>
                  <a:pt x="18479" y="16098"/>
                </a:cubicBezTo>
                <a:cubicBezTo>
                  <a:pt x="18488" y="16157"/>
                  <a:pt x="18501" y="16214"/>
                  <a:pt x="18504" y="16272"/>
                </a:cubicBezTo>
                <a:cubicBezTo>
                  <a:pt x="18507" y="16329"/>
                  <a:pt x="18504" y="16389"/>
                  <a:pt x="18504" y="16446"/>
                </a:cubicBezTo>
              </a:path>
              <a:path w="4912" h="6525">
                <a:moveTo>
                  <a:pt x="18678" y="16768"/>
                </a:moveTo>
                <a:cubicBezTo>
                  <a:pt x="18730" y="16794"/>
                  <a:pt x="18581" y="16838"/>
                  <a:pt x="18554" y="16892"/>
                </a:cubicBezTo>
                <a:cubicBezTo>
                  <a:pt x="18522" y="16956"/>
                  <a:pt x="18529" y="17023"/>
                  <a:pt x="18529" y="17090"/>
                </a:cubicBezTo>
                <a:cubicBezTo>
                  <a:pt x="18634" y="17113"/>
                  <a:pt x="18704" y="17080"/>
                  <a:pt x="18752" y="16966"/>
                </a:cubicBezTo>
                <a:cubicBezTo>
                  <a:pt x="18776" y="16909"/>
                  <a:pt x="18798" y="16818"/>
                  <a:pt x="18752" y="16793"/>
                </a:cubicBezTo>
                <a:cubicBezTo>
                  <a:pt x="18736" y="16785"/>
                  <a:pt x="18719" y="16776"/>
                  <a:pt x="18703" y="16768"/>
                </a:cubicBezTo>
              </a:path>
              <a:path w="4912" h="6525">
                <a:moveTo>
                  <a:pt x="18678" y="12502"/>
                </a:moveTo>
                <a:cubicBezTo>
                  <a:pt x="18616" y="12502"/>
                  <a:pt x="18795" y="12436"/>
                  <a:pt x="18827" y="12427"/>
                </a:cubicBezTo>
                <a:cubicBezTo>
                  <a:pt x="18835" y="12427"/>
                  <a:pt x="18844" y="12427"/>
                  <a:pt x="18852" y="12427"/>
                </a:cubicBezTo>
                <a:cubicBezTo>
                  <a:pt x="18838" y="12648"/>
                  <a:pt x="18761" y="12726"/>
                  <a:pt x="18628" y="12898"/>
                </a:cubicBezTo>
                <a:cubicBezTo>
                  <a:pt x="18589" y="12958"/>
                  <a:pt x="18585" y="12970"/>
                  <a:pt x="18554" y="12998"/>
                </a:cubicBezTo>
                <a:cubicBezTo>
                  <a:pt x="18634" y="12998"/>
                  <a:pt x="18697" y="12991"/>
                  <a:pt x="18777" y="12973"/>
                </a:cubicBezTo>
                <a:cubicBezTo>
                  <a:pt x="18859" y="12952"/>
                  <a:pt x="18875" y="12944"/>
                  <a:pt x="18926" y="12948"/>
                </a:cubicBezTo>
              </a:path>
              <a:path w="4912" h="6525">
                <a:moveTo>
                  <a:pt x="18777" y="17264"/>
                </a:moveTo>
                <a:cubicBezTo>
                  <a:pt x="18762" y="17310"/>
                  <a:pt x="18683" y="17289"/>
                  <a:pt x="18628" y="17289"/>
                </a:cubicBezTo>
                <a:cubicBezTo>
                  <a:pt x="18595" y="17289"/>
                  <a:pt x="18562" y="17289"/>
                  <a:pt x="18529" y="17289"/>
                </a:cubicBezTo>
                <a:cubicBezTo>
                  <a:pt x="18571" y="17362"/>
                  <a:pt x="18688" y="17405"/>
                  <a:pt x="18703" y="17487"/>
                </a:cubicBezTo>
                <a:cubicBezTo>
                  <a:pt x="18714" y="17543"/>
                  <a:pt x="18611" y="17556"/>
                  <a:pt x="18579" y="17562"/>
                </a:cubicBezTo>
                <a:cubicBezTo>
                  <a:pt x="18562" y="17554"/>
                  <a:pt x="18546" y="17545"/>
                  <a:pt x="18529" y="17537"/>
                </a:cubicBezTo>
                <a:cubicBezTo>
                  <a:pt x="18579" y="17462"/>
                  <a:pt x="18638" y="17402"/>
                  <a:pt x="18703" y="17338"/>
                </a:cubicBezTo>
                <a:cubicBezTo>
                  <a:pt x="18711" y="17330"/>
                  <a:pt x="18720" y="17322"/>
                  <a:pt x="18728" y="17314"/>
                </a:cubicBezTo>
              </a:path>
              <a:path w="4912" h="6525">
                <a:moveTo>
                  <a:pt x="17983" y="17785"/>
                </a:moveTo>
                <a:cubicBezTo>
                  <a:pt x="18135" y="17785"/>
                  <a:pt x="18279" y="17755"/>
                  <a:pt x="18430" y="17735"/>
                </a:cubicBezTo>
                <a:cubicBezTo>
                  <a:pt x="18622" y="17710"/>
                  <a:pt x="18807" y="17686"/>
                  <a:pt x="19000" y="17686"/>
                </a:cubicBezTo>
                <a:cubicBezTo>
                  <a:pt x="19043" y="17686"/>
                  <a:pt x="19034" y="17680"/>
                  <a:pt x="18951" y="17661"/>
                </a:cubicBezTo>
              </a:path>
              <a:path w="4912" h="6525">
                <a:moveTo>
                  <a:pt x="17835" y="17462"/>
                </a:moveTo>
                <a:cubicBezTo>
                  <a:pt x="17876" y="17462"/>
                  <a:pt x="17918" y="17462"/>
                  <a:pt x="17959" y="17462"/>
                </a:cubicBezTo>
              </a:path>
              <a:path w="4912" h="6525">
                <a:moveTo>
                  <a:pt x="18728" y="17934"/>
                </a:moveTo>
                <a:cubicBezTo>
                  <a:pt x="18772" y="17923"/>
                  <a:pt x="18802" y="17889"/>
                  <a:pt x="18852" y="17884"/>
                </a:cubicBezTo>
                <a:cubicBezTo>
                  <a:pt x="18876" y="17884"/>
                  <a:pt x="18885" y="17884"/>
                  <a:pt x="18901" y="17884"/>
                </a:cubicBezTo>
                <a:cubicBezTo>
                  <a:pt x="18883" y="17956"/>
                  <a:pt x="18811" y="18034"/>
                  <a:pt x="18752" y="18083"/>
                </a:cubicBezTo>
                <a:cubicBezTo>
                  <a:pt x="18693" y="18122"/>
                  <a:pt x="18681" y="18126"/>
                  <a:pt x="18653" y="18157"/>
                </a:cubicBezTo>
                <a:cubicBezTo>
                  <a:pt x="18672" y="18213"/>
                  <a:pt x="18750" y="18147"/>
                  <a:pt x="18802" y="18132"/>
                </a:cubicBezTo>
                <a:cubicBezTo>
                  <a:pt x="18828" y="18124"/>
                  <a:pt x="19037" y="18086"/>
                  <a:pt x="19050" y="18058"/>
                </a:cubicBezTo>
                <a:cubicBezTo>
                  <a:pt x="19050" y="18041"/>
                  <a:pt x="19050" y="18025"/>
                  <a:pt x="19050" y="18008"/>
                </a:cubicBezTo>
              </a:path>
              <a:path w="4912" h="6525">
                <a:moveTo>
                  <a:pt x="19472" y="13395"/>
                </a:moveTo>
                <a:cubicBezTo>
                  <a:pt x="19349" y="13364"/>
                  <a:pt x="19280" y="13446"/>
                  <a:pt x="19224" y="13568"/>
                </a:cubicBezTo>
                <a:cubicBezTo>
                  <a:pt x="19188" y="13646"/>
                  <a:pt x="19169" y="13892"/>
                  <a:pt x="19298" y="13915"/>
                </a:cubicBezTo>
                <a:cubicBezTo>
                  <a:pt x="19448" y="13942"/>
                  <a:pt x="19601" y="13782"/>
                  <a:pt x="19571" y="13643"/>
                </a:cubicBezTo>
                <a:cubicBezTo>
                  <a:pt x="19552" y="13554"/>
                  <a:pt x="19465" y="13543"/>
                  <a:pt x="19397" y="13519"/>
                </a:cubicBezTo>
              </a:path>
              <a:path w="4912" h="6525">
                <a:moveTo>
                  <a:pt x="19273" y="14163"/>
                </a:moveTo>
                <a:cubicBezTo>
                  <a:pt x="19324" y="14222"/>
                  <a:pt x="19360" y="14248"/>
                  <a:pt x="19348" y="14337"/>
                </a:cubicBezTo>
                <a:cubicBezTo>
                  <a:pt x="19328" y="14487"/>
                  <a:pt x="19301" y="14631"/>
                  <a:pt x="19298" y="14784"/>
                </a:cubicBezTo>
                <a:cubicBezTo>
                  <a:pt x="19289" y="15198"/>
                  <a:pt x="19308" y="15614"/>
                  <a:pt x="19273" y="16024"/>
                </a:cubicBezTo>
                <a:cubicBezTo>
                  <a:pt x="19263" y="16141"/>
                  <a:pt x="19260" y="16256"/>
                  <a:pt x="19248" y="16371"/>
                </a:cubicBezTo>
                <a:cubicBezTo>
                  <a:pt x="19237" y="16480"/>
                  <a:pt x="19211" y="16587"/>
                  <a:pt x="19199" y="16694"/>
                </a:cubicBezTo>
                <a:cubicBezTo>
                  <a:pt x="19189" y="16782"/>
                  <a:pt x="19162" y="16854"/>
                  <a:pt x="19149" y="16942"/>
                </a:cubicBezTo>
                <a:cubicBezTo>
                  <a:pt x="19139" y="17015"/>
                  <a:pt x="19152" y="17039"/>
                  <a:pt x="19124" y="17115"/>
                </a:cubicBezTo>
                <a:cubicBezTo>
                  <a:pt x="19107" y="17160"/>
                  <a:pt x="19109" y="17142"/>
                  <a:pt x="19100" y="17190"/>
                </a:cubicBezTo>
              </a:path>
              <a:path w="4912" h="6525">
                <a:moveTo>
                  <a:pt x="19298" y="17735"/>
                </a:moveTo>
                <a:cubicBezTo>
                  <a:pt x="19327" y="17750"/>
                  <a:pt x="19274" y="17786"/>
                  <a:pt x="19248" y="17835"/>
                </a:cubicBezTo>
                <a:cubicBezTo>
                  <a:pt x="19218" y="17892"/>
                  <a:pt x="19177" y="17932"/>
                  <a:pt x="19224" y="17983"/>
                </a:cubicBezTo>
                <a:cubicBezTo>
                  <a:pt x="19276" y="18040"/>
                  <a:pt x="19404" y="18071"/>
                  <a:pt x="19472" y="18008"/>
                </a:cubicBezTo>
                <a:cubicBezTo>
                  <a:pt x="19515" y="17968"/>
                  <a:pt x="19560" y="17841"/>
                  <a:pt x="19546" y="17785"/>
                </a:cubicBezTo>
                <a:cubicBezTo>
                  <a:pt x="19533" y="17732"/>
                  <a:pt x="19390" y="17705"/>
                  <a:pt x="19348" y="17686"/>
                </a:cubicBezTo>
              </a:path>
              <a:path w="4912" h="6525">
                <a:moveTo>
                  <a:pt x="19496" y="12278"/>
                </a:moveTo>
                <a:cubicBezTo>
                  <a:pt x="19436" y="12325"/>
                  <a:pt x="19379" y="12346"/>
                  <a:pt x="19298" y="12353"/>
                </a:cubicBezTo>
                <a:cubicBezTo>
                  <a:pt x="19185" y="12363"/>
                  <a:pt x="19206" y="12416"/>
                  <a:pt x="19174" y="12526"/>
                </a:cubicBezTo>
                <a:cubicBezTo>
                  <a:pt x="19156" y="12587"/>
                  <a:pt x="19149" y="12597"/>
                  <a:pt x="19149" y="12650"/>
                </a:cubicBezTo>
                <a:cubicBezTo>
                  <a:pt x="19195" y="12639"/>
                  <a:pt x="19249" y="12621"/>
                  <a:pt x="19298" y="12601"/>
                </a:cubicBezTo>
                <a:cubicBezTo>
                  <a:pt x="19391" y="12564"/>
                  <a:pt x="19539" y="12618"/>
                  <a:pt x="19521" y="12750"/>
                </a:cubicBezTo>
                <a:cubicBezTo>
                  <a:pt x="19501" y="12900"/>
                  <a:pt x="19348" y="12907"/>
                  <a:pt x="19248" y="12898"/>
                </a:cubicBezTo>
                <a:cubicBezTo>
                  <a:pt x="19232" y="12898"/>
                  <a:pt x="19215" y="12898"/>
                  <a:pt x="19199" y="12898"/>
                </a:cubicBezTo>
              </a:path>
              <a:path w="4912" h="6525">
                <a:moveTo>
                  <a:pt x="18355" y="13221"/>
                </a:moveTo>
                <a:cubicBezTo>
                  <a:pt x="18447" y="13209"/>
                  <a:pt x="18530" y="13196"/>
                  <a:pt x="18628" y="13196"/>
                </a:cubicBezTo>
                <a:cubicBezTo>
                  <a:pt x="18819" y="13196"/>
                  <a:pt x="19007" y="13154"/>
                  <a:pt x="19199" y="13146"/>
                </a:cubicBezTo>
                <a:cubicBezTo>
                  <a:pt x="19423" y="13137"/>
                  <a:pt x="19624" y="13099"/>
                  <a:pt x="19844" y="13072"/>
                </a:cubicBezTo>
                <a:cubicBezTo>
                  <a:pt x="19920" y="13063"/>
                  <a:pt x="19991" y="13053"/>
                  <a:pt x="20067" y="13047"/>
                </a:cubicBezTo>
              </a:path>
              <a:path w="4912" h="6525">
                <a:moveTo>
                  <a:pt x="18157" y="18306"/>
                </a:moveTo>
                <a:cubicBezTo>
                  <a:pt x="18231" y="18291"/>
                  <a:pt x="18276" y="18261"/>
                  <a:pt x="18355" y="18256"/>
                </a:cubicBezTo>
                <a:cubicBezTo>
                  <a:pt x="18397" y="18256"/>
                  <a:pt x="18422" y="18256"/>
                  <a:pt x="18455" y="18256"/>
                </a:cubicBezTo>
              </a:path>
              <a:path w="4912" h="6525">
                <a:moveTo>
                  <a:pt x="18951" y="18331"/>
                </a:moveTo>
                <a:cubicBezTo>
                  <a:pt x="19018" y="18317"/>
                  <a:pt x="19078" y="18289"/>
                  <a:pt x="19149" y="18281"/>
                </a:cubicBezTo>
                <a:cubicBezTo>
                  <a:pt x="19184" y="18373"/>
                  <a:pt x="19165" y="18444"/>
                  <a:pt x="19050" y="18479"/>
                </a:cubicBezTo>
                <a:cubicBezTo>
                  <a:pt x="18992" y="18497"/>
                  <a:pt x="18898" y="18489"/>
                  <a:pt x="18852" y="18455"/>
                </a:cubicBezTo>
                <a:cubicBezTo>
                  <a:pt x="18938" y="18444"/>
                  <a:pt x="18967" y="18441"/>
                  <a:pt x="19050" y="18455"/>
                </a:cubicBezTo>
                <a:cubicBezTo>
                  <a:pt x="19145" y="18471"/>
                  <a:pt x="19190" y="18476"/>
                  <a:pt x="19298" y="18455"/>
                </a:cubicBezTo>
              </a:path>
              <a:path w="4912" h="6525">
                <a:moveTo>
                  <a:pt x="19546" y="18256"/>
                </a:moveTo>
                <a:cubicBezTo>
                  <a:pt x="19415" y="18275"/>
                  <a:pt x="19371" y="18282"/>
                  <a:pt x="19348" y="18405"/>
                </a:cubicBezTo>
                <a:cubicBezTo>
                  <a:pt x="19334" y="18478"/>
                  <a:pt x="19499" y="18466"/>
                  <a:pt x="19521" y="18430"/>
                </a:cubicBezTo>
                <a:cubicBezTo>
                  <a:pt x="19548" y="18385"/>
                  <a:pt x="19511" y="18297"/>
                  <a:pt x="19496" y="18256"/>
                </a:cubicBezTo>
              </a:path>
              <a:path w="4912" h="6525">
                <a:moveTo>
                  <a:pt x="20042" y="18157"/>
                </a:moveTo>
                <a:cubicBezTo>
                  <a:pt x="19829" y="18361"/>
                  <a:pt x="19628" y="18485"/>
                  <a:pt x="19372" y="18628"/>
                </a:cubicBezTo>
                <a:cubicBezTo>
                  <a:pt x="19260" y="18696"/>
                  <a:pt x="19233" y="18717"/>
                  <a:pt x="19149" y="18728"/>
                </a:cubicBezTo>
              </a:path>
              <a:path w="4912" h="6525">
                <a:moveTo>
                  <a:pt x="19943" y="18653"/>
                </a:moveTo>
                <a:cubicBezTo>
                  <a:pt x="19856" y="18682"/>
                  <a:pt x="19817" y="18726"/>
                  <a:pt x="19769" y="18802"/>
                </a:cubicBezTo>
                <a:cubicBezTo>
                  <a:pt x="19858" y="18802"/>
                  <a:pt x="19912" y="18788"/>
                  <a:pt x="19993" y="18752"/>
                </a:cubicBezTo>
                <a:cubicBezTo>
                  <a:pt x="19993" y="18658"/>
                  <a:pt x="19916" y="18690"/>
                  <a:pt x="19869" y="18653"/>
                </a:cubicBezTo>
                <a:cubicBezTo>
                  <a:pt x="19869" y="18645"/>
                  <a:pt x="19869" y="18636"/>
                  <a:pt x="19869" y="1862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5240" y="2517840"/>
            <a:ext cx="142920" cy="16200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18107" y="6995"/>
                </a:moveTo>
                <a:cubicBezTo>
                  <a:pt x="18039" y="6995"/>
                  <a:pt x="17987" y="7009"/>
                  <a:pt x="17934" y="7020"/>
                </a:cubicBezTo>
                <a:cubicBezTo>
                  <a:pt x="17857" y="7035"/>
                  <a:pt x="17844" y="6991"/>
                  <a:pt x="17785" y="7069"/>
                </a:cubicBezTo>
                <a:cubicBezTo>
                  <a:pt x="17765" y="7110"/>
                  <a:pt x="17756" y="7116"/>
                  <a:pt x="17760" y="7144"/>
                </a:cubicBezTo>
                <a:cubicBezTo>
                  <a:pt x="17841" y="7144"/>
                  <a:pt x="17935" y="7126"/>
                  <a:pt x="18008" y="7169"/>
                </a:cubicBezTo>
                <a:cubicBezTo>
                  <a:pt x="18073" y="7207"/>
                  <a:pt x="18120" y="7330"/>
                  <a:pt x="18058" y="7392"/>
                </a:cubicBezTo>
                <a:cubicBezTo>
                  <a:pt x="17988" y="7462"/>
                  <a:pt x="17842" y="7438"/>
                  <a:pt x="17760" y="7417"/>
                </a:cubicBezTo>
                <a:cubicBezTo>
                  <a:pt x="17744" y="7409"/>
                  <a:pt x="17727" y="7400"/>
                  <a:pt x="17711" y="739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4880" y="25542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8281" y="7144"/>
                </a:moveTo>
                <a:cubicBezTo>
                  <a:pt x="18255" y="7189"/>
                  <a:pt x="18168" y="7356"/>
                  <a:pt x="18207" y="7417"/>
                </a:cubicBezTo>
                <a:cubicBezTo>
                  <a:pt x="18280" y="7532"/>
                  <a:pt x="18442" y="7488"/>
                  <a:pt x="18504" y="7392"/>
                </a:cubicBezTo>
                <a:cubicBezTo>
                  <a:pt x="18577" y="7279"/>
                  <a:pt x="18534" y="7165"/>
                  <a:pt x="18430" y="7119"/>
                </a:cubicBezTo>
                <a:cubicBezTo>
                  <a:pt x="18357" y="7095"/>
                  <a:pt x="18333" y="7086"/>
                  <a:pt x="18281" y="709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76960" y="2490840"/>
            <a:ext cx="492120" cy="250920"/>
          </a:xfrm>
          <a:custGeom>
            <a:avLst/>
            <a:gdLst/>
            <a:ahLst/>
            <a:rect l="l" t="t" r="r" b="b"/>
            <a:pathLst>
              <a:path w="1365" h="695">
                <a:moveTo>
                  <a:pt x="17512" y="7615"/>
                </a:moveTo>
                <a:cubicBezTo>
                  <a:pt x="17494" y="7552"/>
                  <a:pt x="17509" y="7564"/>
                  <a:pt x="17512" y="7491"/>
                </a:cubicBezTo>
                <a:cubicBezTo>
                  <a:pt x="17518" y="7367"/>
                  <a:pt x="17511" y="7235"/>
                  <a:pt x="17462" y="7119"/>
                </a:cubicBezTo>
                <a:cubicBezTo>
                  <a:pt x="17446" y="7081"/>
                  <a:pt x="17444" y="7087"/>
                  <a:pt x="17438" y="7045"/>
                </a:cubicBezTo>
                <a:cubicBezTo>
                  <a:pt x="17530" y="7010"/>
                  <a:pt x="17612" y="7008"/>
                  <a:pt x="17711" y="6995"/>
                </a:cubicBezTo>
                <a:cubicBezTo>
                  <a:pt x="17905" y="6969"/>
                  <a:pt x="18087" y="6962"/>
                  <a:pt x="18281" y="6945"/>
                </a:cubicBezTo>
                <a:cubicBezTo>
                  <a:pt x="18424" y="6932"/>
                  <a:pt x="18559" y="6921"/>
                  <a:pt x="18703" y="6921"/>
                </a:cubicBezTo>
                <a:cubicBezTo>
                  <a:pt x="18736" y="6921"/>
                  <a:pt x="18769" y="6921"/>
                  <a:pt x="18802" y="69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65920" y="2581200"/>
            <a:ext cx="1440" cy="133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16570" y="7193"/>
                </a:moveTo>
                <a:cubicBezTo>
                  <a:pt x="16570" y="7136"/>
                  <a:pt x="16570" y="7260"/>
                  <a:pt x="16570" y="7317"/>
                </a:cubicBezTo>
                <a:cubicBezTo>
                  <a:pt x="16570" y="7392"/>
                  <a:pt x="16570" y="7466"/>
                  <a:pt x="16570" y="754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45120" y="2697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793" y="7491"/>
                </a:moveTo>
                <a:lnTo>
                  <a:pt x="16793" y="7491"/>
                </a:lnTo>
                <a:lnTo>
                  <a:pt x="16793" y="7491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3120" y="2554200"/>
            <a:ext cx="8892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17314" y="7119"/>
                </a:moveTo>
                <a:cubicBezTo>
                  <a:pt x="17267" y="7119"/>
                  <a:pt x="17235" y="7099"/>
                  <a:pt x="17190" y="7094"/>
                </a:cubicBezTo>
                <a:cubicBezTo>
                  <a:pt x="17165" y="7094"/>
                  <a:pt x="17157" y="7094"/>
                  <a:pt x="17140" y="7094"/>
                </a:cubicBezTo>
                <a:cubicBezTo>
                  <a:pt x="17140" y="7154"/>
                  <a:pt x="17108" y="7190"/>
                  <a:pt x="17090" y="7243"/>
                </a:cubicBezTo>
                <a:cubicBezTo>
                  <a:pt x="17164" y="7243"/>
                  <a:pt x="17220" y="7252"/>
                  <a:pt x="17289" y="7268"/>
                </a:cubicBezTo>
                <a:cubicBezTo>
                  <a:pt x="17346" y="7281"/>
                  <a:pt x="17364" y="7342"/>
                  <a:pt x="17314" y="7392"/>
                </a:cubicBezTo>
                <a:cubicBezTo>
                  <a:pt x="17273" y="7434"/>
                  <a:pt x="17196" y="7441"/>
                  <a:pt x="17140" y="744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59720" y="2643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8777" y="7367"/>
                </a:moveTo>
                <a:cubicBezTo>
                  <a:pt x="18777" y="7359"/>
                  <a:pt x="18777" y="7350"/>
                  <a:pt x="18777" y="734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4840" y="2724120"/>
            <a:ext cx="196560" cy="88920"/>
          </a:xfrm>
          <a:custGeom>
            <a:avLst/>
            <a:gdLst/>
            <a:ahLst/>
            <a:rect l="l" t="t" r="r" b="b"/>
            <a:pathLst>
              <a:path w="546" h="249">
                <a:moveTo>
                  <a:pt x="16842" y="7590"/>
                </a:moveTo>
                <a:cubicBezTo>
                  <a:pt x="16818" y="7590"/>
                  <a:pt x="16810" y="7590"/>
                  <a:pt x="16818" y="7565"/>
                </a:cubicBezTo>
                <a:cubicBezTo>
                  <a:pt x="16818" y="7643"/>
                  <a:pt x="16830" y="7710"/>
                  <a:pt x="16892" y="7764"/>
                </a:cubicBezTo>
                <a:cubicBezTo>
                  <a:pt x="16964" y="7826"/>
                  <a:pt x="17059" y="7819"/>
                  <a:pt x="17140" y="7789"/>
                </a:cubicBezTo>
                <a:cubicBezTo>
                  <a:pt x="17213" y="7761"/>
                  <a:pt x="17260" y="7719"/>
                  <a:pt x="17314" y="7665"/>
                </a:cubicBezTo>
                <a:cubicBezTo>
                  <a:pt x="17347" y="7632"/>
                  <a:pt x="17362" y="7602"/>
                  <a:pt x="17338" y="759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69080" y="2633760"/>
            <a:ext cx="231840" cy="11736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18802" y="7417"/>
                </a:moveTo>
                <a:cubicBezTo>
                  <a:pt x="18813" y="7385"/>
                  <a:pt x="18820" y="7378"/>
                  <a:pt x="18852" y="7367"/>
                </a:cubicBezTo>
                <a:cubicBezTo>
                  <a:pt x="18852" y="7437"/>
                  <a:pt x="18846" y="7535"/>
                  <a:pt x="18901" y="7590"/>
                </a:cubicBezTo>
                <a:cubicBezTo>
                  <a:pt x="18993" y="7682"/>
                  <a:pt x="19093" y="7624"/>
                  <a:pt x="19199" y="7590"/>
                </a:cubicBezTo>
                <a:cubicBezTo>
                  <a:pt x="19290" y="7561"/>
                  <a:pt x="19353" y="7530"/>
                  <a:pt x="19422" y="7466"/>
                </a:cubicBezTo>
                <a:cubicBezTo>
                  <a:pt x="19460" y="7431"/>
                  <a:pt x="19447" y="7390"/>
                  <a:pt x="19447" y="7342"/>
                </a:cubicBezTo>
                <a:cubicBezTo>
                  <a:pt x="19447" y="7334"/>
                  <a:pt x="19447" y="7325"/>
                  <a:pt x="19447" y="731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8200" y="2608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9496" y="7243"/>
                </a:moveTo>
                <a:cubicBezTo>
                  <a:pt x="19504" y="7243"/>
                  <a:pt x="19513" y="7243"/>
                  <a:pt x="19521" y="724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50000" y="2463840"/>
            <a:ext cx="331920" cy="28440"/>
          </a:xfrm>
          <a:custGeom>
            <a:avLst/>
            <a:gdLst/>
            <a:ahLst/>
            <a:rect l="l" t="t" r="r" b="b"/>
            <a:pathLst>
              <a:path w="919" h="76">
                <a:moveTo>
                  <a:pt x="18752" y="6921"/>
                </a:moveTo>
                <a:cubicBezTo>
                  <a:pt x="18786" y="6870"/>
                  <a:pt x="18879" y="6909"/>
                  <a:pt x="18951" y="6896"/>
                </a:cubicBezTo>
                <a:cubicBezTo>
                  <a:pt x="19066" y="6875"/>
                  <a:pt x="19180" y="6850"/>
                  <a:pt x="19298" y="6846"/>
                </a:cubicBezTo>
                <a:cubicBezTo>
                  <a:pt x="19422" y="6842"/>
                  <a:pt x="19546" y="6846"/>
                  <a:pt x="19670" y="684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3720" y="2536920"/>
            <a:ext cx="11556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9050" y="7045"/>
                </a:moveTo>
                <a:cubicBezTo>
                  <a:pt x="18994" y="7058"/>
                  <a:pt x="18979" y="7092"/>
                  <a:pt x="18951" y="7144"/>
                </a:cubicBezTo>
                <a:cubicBezTo>
                  <a:pt x="18917" y="7207"/>
                  <a:pt x="18955" y="7268"/>
                  <a:pt x="19025" y="7293"/>
                </a:cubicBezTo>
                <a:cubicBezTo>
                  <a:pt x="19105" y="7322"/>
                  <a:pt x="19210" y="7231"/>
                  <a:pt x="19248" y="7169"/>
                </a:cubicBezTo>
                <a:cubicBezTo>
                  <a:pt x="19248" y="7161"/>
                  <a:pt x="19248" y="7152"/>
                  <a:pt x="19248" y="7144"/>
                </a:cubicBezTo>
                <a:cubicBezTo>
                  <a:pt x="19215" y="7135"/>
                  <a:pt x="19152" y="7111"/>
                  <a:pt x="19124" y="7094"/>
                </a:cubicBezTo>
                <a:cubicBezTo>
                  <a:pt x="19116" y="7086"/>
                  <a:pt x="19108" y="7077"/>
                  <a:pt x="19100" y="706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7920" y="2384280"/>
            <a:ext cx="44280" cy="367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9621" y="6697"/>
                </a:moveTo>
                <a:cubicBezTo>
                  <a:pt x="19621" y="6666"/>
                  <a:pt x="19613" y="6631"/>
                  <a:pt x="19596" y="6623"/>
                </a:cubicBezTo>
                <a:cubicBezTo>
                  <a:pt x="19561" y="6623"/>
                  <a:pt x="19548" y="6632"/>
                  <a:pt x="19546" y="6672"/>
                </a:cubicBezTo>
                <a:cubicBezTo>
                  <a:pt x="19594" y="6720"/>
                  <a:pt x="19610" y="6694"/>
                  <a:pt x="19645" y="6623"/>
                </a:cubicBezTo>
                <a:cubicBezTo>
                  <a:pt x="19601" y="6623"/>
                  <a:pt x="19557" y="6604"/>
                  <a:pt x="19546" y="6648"/>
                </a:cubicBezTo>
                <a:cubicBezTo>
                  <a:pt x="19525" y="6731"/>
                  <a:pt x="19549" y="6674"/>
                  <a:pt x="19546" y="6672"/>
                </a:cubicBezTo>
                <a:cubicBezTo>
                  <a:pt x="19538" y="6672"/>
                  <a:pt x="19529" y="6672"/>
                  <a:pt x="19521" y="667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9800" y="232092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18306" y="6524"/>
                </a:moveTo>
                <a:cubicBezTo>
                  <a:pt x="18312" y="6506"/>
                  <a:pt x="18349" y="6463"/>
                  <a:pt x="18380" y="6449"/>
                </a:cubicBezTo>
                <a:cubicBezTo>
                  <a:pt x="18410" y="6436"/>
                  <a:pt x="18459" y="6470"/>
                  <a:pt x="18455" y="6499"/>
                </a:cubicBezTo>
                <a:cubicBezTo>
                  <a:pt x="18430" y="6548"/>
                  <a:pt x="18421" y="6565"/>
                  <a:pt x="18405" y="6598"/>
                </a:cubicBezTo>
                <a:cubicBezTo>
                  <a:pt x="18458" y="6598"/>
                  <a:pt x="18466" y="6610"/>
                  <a:pt x="18504" y="6648"/>
                </a:cubicBezTo>
                <a:cubicBezTo>
                  <a:pt x="18488" y="6694"/>
                  <a:pt x="18415" y="6728"/>
                  <a:pt x="18355" y="6747"/>
                </a:cubicBezTo>
                <a:cubicBezTo>
                  <a:pt x="18331" y="6747"/>
                  <a:pt x="18322" y="6747"/>
                  <a:pt x="18306" y="674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6880" y="269712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7909" y="7491"/>
                </a:moveTo>
                <a:cubicBezTo>
                  <a:pt x="17924" y="7568"/>
                  <a:pt x="17934" y="7631"/>
                  <a:pt x="17934" y="7714"/>
                </a:cubicBezTo>
                <a:cubicBezTo>
                  <a:pt x="17934" y="7722"/>
                  <a:pt x="17934" y="7731"/>
                  <a:pt x="17934" y="77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84960" y="2724120"/>
            <a:ext cx="81000" cy="34920"/>
          </a:xfrm>
          <a:custGeom>
            <a:avLst/>
            <a:gdLst/>
            <a:ahLst/>
            <a:rect l="l" t="t" r="r" b="b"/>
            <a:pathLst>
              <a:path w="225" h="101">
                <a:moveTo>
                  <a:pt x="17760" y="7565"/>
                </a:moveTo>
                <a:cubicBezTo>
                  <a:pt x="17735" y="7615"/>
                  <a:pt x="17727" y="7632"/>
                  <a:pt x="17760" y="7665"/>
                </a:cubicBezTo>
                <a:cubicBezTo>
                  <a:pt x="17826" y="7643"/>
                  <a:pt x="17891" y="7629"/>
                  <a:pt x="17959" y="761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62800" y="2714760"/>
            <a:ext cx="81000" cy="107640"/>
          </a:xfrm>
          <a:custGeom>
            <a:avLst/>
            <a:gdLst/>
            <a:ahLst/>
            <a:rect l="l" t="t" r="r" b="b"/>
            <a:pathLst>
              <a:path w="225" h="298">
                <a:moveTo>
                  <a:pt x="18430" y="7541"/>
                </a:moveTo>
                <a:cubicBezTo>
                  <a:pt x="18400" y="7548"/>
                  <a:pt x="18329" y="7573"/>
                  <a:pt x="18306" y="7590"/>
                </a:cubicBezTo>
                <a:cubicBezTo>
                  <a:pt x="18254" y="7628"/>
                  <a:pt x="18263" y="7648"/>
                  <a:pt x="18231" y="7689"/>
                </a:cubicBezTo>
                <a:cubicBezTo>
                  <a:pt x="18298" y="7706"/>
                  <a:pt x="18326" y="7674"/>
                  <a:pt x="18405" y="7689"/>
                </a:cubicBezTo>
                <a:cubicBezTo>
                  <a:pt x="18422" y="7697"/>
                  <a:pt x="18438" y="7706"/>
                  <a:pt x="18455" y="7714"/>
                </a:cubicBezTo>
                <a:cubicBezTo>
                  <a:pt x="18441" y="7757"/>
                  <a:pt x="18362" y="7838"/>
                  <a:pt x="18281" y="7838"/>
                </a:cubicBezTo>
                <a:cubicBezTo>
                  <a:pt x="18273" y="7830"/>
                  <a:pt x="18264" y="7821"/>
                  <a:pt x="18256" y="781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3320" y="278604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7537" y="7739"/>
                </a:moveTo>
                <a:cubicBezTo>
                  <a:pt x="17578" y="7739"/>
                  <a:pt x="17620" y="7739"/>
                  <a:pt x="17661" y="77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7320" y="2847960"/>
            <a:ext cx="258840" cy="19080"/>
          </a:xfrm>
          <a:custGeom>
            <a:avLst/>
            <a:gdLst/>
            <a:ahLst/>
            <a:rect l="l" t="t" r="r" b="b"/>
            <a:pathLst>
              <a:path w="720" h="50">
                <a:moveTo>
                  <a:pt x="17686" y="7938"/>
                </a:moveTo>
                <a:cubicBezTo>
                  <a:pt x="17849" y="7997"/>
                  <a:pt x="17988" y="7931"/>
                  <a:pt x="18157" y="7913"/>
                </a:cubicBezTo>
                <a:cubicBezTo>
                  <a:pt x="18235" y="7905"/>
                  <a:pt x="18325" y="7913"/>
                  <a:pt x="18405" y="791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72160" y="2919240"/>
            <a:ext cx="115920" cy="907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8355" y="8111"/>
                </a:moveTo>
                <a:cubicBezTo>
                  <a:pt x="18266" y="8150"/>
                  <a:pt x="18323" y="8153"/>
                  <a:pt x="18281" y="8186"/>
                </a:cubicBezTo>
                <a:cubicBezTo>
                  <a:pt x="18256" y="8186"/>
                  <a:pt x="18248" y="8186"/>
                  <a:pt x="18256" y="8210"/>
                </a:cubicBezTo>
                <a:cubicBezTo>
                  <a:pt x="18334" y="8210"/>
                  <a:pt x="18435" y="8180"/>
                  <a:pt x="18504" y="8186"/>
                </a:cubicBezTo>
                <a:cubicBezTo>
                  <a:pt x="18581" y="8193"/>
                  <a:pt x="18595" y="8258"/>
                  <a:pt x="18554" y="8310"/>
                </a:cubicBezTo>
                <a:cubicBezTo>
                  <a:pt x="18487" y="8397"/>
                  <a:pt x="18407" y="8360"/>
                  <a:pt x="18331" y="831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3720" y="2759040"/>
            <a:ext cx="2664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8926" y="7689"/>
                </a:moveTo>
                <a:cubicBezTo>
                  <a:pt x="18934" y="7681"/>
                  <a:pt x="18943" y="7673"/>
                  <a:pt x="18951" y="7665"/>
                </a:cubicBezTo>
                <a:cubicBezTo>
                  <a:pt x="18988" y="7739"/>
                  <a:pt x="19000" y="7780"/>
                  <a:pt x="19000" y="7863"/>
                </a:cubicBezTo>
                <a:cubicBezTo>
                  <a:pt x="19000" y="7896"/>
                  <a:pt x="19000" y="7913"/>
                  <a:pt x="19000" y="793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2901960"/>
            <a:ext cx="73080" cy="98280"/>
          </a:xfrm>
          <a:custGeom>
            <a:avLst/>
            <a:gdLst/>
            <a:ahLst/>
            <a:rect l="l" t="t" r="r" b="b"/>
            <a:pathLst>
              <a:path w="200" h="273">
                <a:moveTo>
                  <a:pt x="19000" y="8062"/>
                </a:moveTo>
                <a:cubicBezTo>
                  <a:pt x="18986" y="8104"/>
                  <a:pt x="18964" y="8103"/>
                  <a:pt x="18926" y="8161"/>
                </a:cubicBezTo>
                <a:cubicBezTo>
                  <a:pt x="18851" y="8275"/>
                  <a:pt x="18944" y="8247"/>
                  <a:pt x="19000" y="8310"/>
                </a:cubicBezTo>
                <a:cubicBezTo>
                  <a:pt x="19043" y="8358"/>
                  <a:pt x="19091" y="8269"/>
                  <a:pt x="19100" y="8210"/>
                </a:cubicBezTo>
                <a:cubicBezTo>
                  <a:pt x="19110" y="8146"/>
                  <a:pt x="19050" y="8124"/>
                  <a:pt x="19000" y="8111"/>
                </a:cubicBezTo>
                <a:cubicBezTo>
                  <a:pt x="18992" y="8111"/>
                  <a:pt x="18984" y="8111"/>
                  <a:pt x="18976" y="811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6720" y="2340000"/>
            <a:ext cx="63360" cy="106200"/>
          </a:xfrm>
          <a:custGeom>
            <a:avLst/>
            <a:gdLst/>
            <a:ahLst/>
            <a:rect l="l" t="t" r="r" b="b"/>
            <a:pathLst>
              <a:path w="174" h="298">
                <a:moveTo>
                  <a:pt x="18876" y="6573"/>
                </a:moveTo>
                <a:cubicBezTo>
                  <a:pt x="18868" y="6573"/>
                  <a:pt x="18860" y="6573"/>
                  <a:pt x="18852" y="6573"/>
                </a:cubicBezTo>
                <a:cubicBezTo>
                  <a:pt x="18852" y="6516"/>
                  <a:pt x="18865" y="6505"/>
                  <a:pt x="18926" y="6499"/>
                </a:cubicBezTo>
                <a:cubicBezTo>
                  <a:pt x="18969" y="6495"/>
                  <a:pt x="19000" y="6589"/>
                  <a:pt x="18976" y="6623"/>
                </a:cubicBezTo>
                <a:cubicBezTo>
                  <a:pt x="18951" y="6623"/>
                  <a:pt x="18943" y="6623"/>
                  <a:pt x="18951" y="6648"/>
                </a:cubicBezTo>
                <a:cubicBezTo>
                  <a:pt x="18924" y="6567"/>
                  <a:pt x="19050" y="6644"/>
                  <a:pt x="19025" y="6697"/>
                </a:cubicBezTo>
                <a:cubicBezTo>
                  <a:pt x="19005" y="6740"/>
                  <a:pt x="18920" y="6791"/>
                  <a:pt x="18876" y="6796"/>
                </a:cubicBezTo>
                <a:cubicBezTo>
                  <a:pt x="18868" y="6796"/>
                  <a:pt x="18860" y="6796"/>
                  <a:pt x="18852" y="679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34080" y="3054240"/>
            <a:ext cx="73080" cy="3492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8455" y="8483"/>
                </a:moveTo>
                <a:cubicBezTo>
                  <a:pt x="18436" y="8541"/>
                  <a:pt x="18427" y="8547"/>
                  <a:pt x="18430" y="8582"/>
                </a:cubicBezTo>
                <a:cubicBezTo>
                  <a:pt x="18504" y="8576"/>
                  <a:pt x="18571" y="8577"/>
                  <a:pt x="18628" y="853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02724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8628" y="8409"/>
                </a:moveTo>
                <a:cubicBezTo>
                  <a:pt x="18628" y="8490"/>
                  <a:pt x="18601" y="8647"/>
                  <a:pt x="18653" y="868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96080" y="3027240"/>
            <a:ext cx="81000" cy="108000"/>
          </a:xfrm>
          <a:custGeom>
            <a:avLst/>
            <a:gdLst/>
            <a:ahLst/>
            <a:rect l="l" t="t" r="r" b="b"/>
            <a:pathLst>
              <a:path w="225" h="298">
                <a:moveTo>
                  <a:pt x="19100" y="8409"/>
                </a:moveTo>
                <a:cubicBezTo>
                  <a:pt x="19055" y="8418"/>
                  <a:pt x="18954" y="8443"/>
                  <a:pt x="18926" y="8483"/>
                </a:cubicBezTo>
                <a:cubicBezTo>
                  <a:pt x="18904" y="8527"/>
                  <a:pt x="18901" y="8539"/>
                  <a:pt x="18876" y="8558"/>
                </a:cubicBezTo>
                <a:cubicBezTo>
                  <a:pt x="18924" y="8558"/>
                  <a:pt x="19079" y="8528"/>
                  <a:pt x="19100" y="8582"/>
                </a:cubicBezTo>
                <a:cubicBezTo>
                  <a:pt x="19141" y="8688"/>
                  <a:pt x="19057" y="8700"/>
                  <a:pt x="18976" y="8706"/>
                </a:cubicBezTo>
                <a:cubicBezTo>
                  <a:pt x="18968" y="8706"/>
                  <a:pt x="18959" y="8706"/>
                  <a:pt x="18951" y="87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0240" y="3098880"/>
            <a:ext cx="6192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8083" y="8657"/>
                </a:moveTo>
                <a:cubicBezTo>
                  <a:pt x="18138" y="8623"/>
                  <a:pt x="18198" y="8636"/>
                  <a:pt x="18256" y="860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9800" y="3197160"/>
            <a:ext cx="260280" cy="9720"/>
          </a:xfrm>
          <a:custGeom>
            <a:avLst/>
            <a:gdLst/>
            <a:ahLst/>
            <a:rect l="l" t="t" r="r" b="b"/>
            <a:pathLst>
              <a:path w="720" h="26">
                <a:moveTo>
                  <a:pt x="18306" y="8880"/>
                </a:moveTo>
                <a:cubicBezTo>
                  <a:pt x="18476" y="8923"/>
                  <a:pt x="18649" y="8884"/>
                  <a:pt x="18827" y="8880"/>
                </a:cubicBezTo>
                <a:cubicBezTo>
                  <a:pt x="18893" y="8879"/>
                  <a:pt x="18959" y="8880"/>
                  <a:pt x="19025" y="888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3197160"/>
            <a:ext cx="117360" cy="15264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19224" y="8905"/>
                </a:moveTo>
                <a:cubicBezTo>
                  <a:pt x="19208" y="8856"/>
                  <a:pt x="19153" y="8911"/>
                  <a:pt x="19100" y="8930"/>
                </a:cubicBezTo>
                <a:cubicBezTo>
                  <a:pt x="19006" y="8963"/>
                  <a:pt x="18986" y="8941"/>
                  <a:pt x="18976" y="9054"/>
                </a:cubicBezTo>
                <a:cubicBezTo>
                  <a:pt x="18976" y="9079"/>
                  <a:pt x="18976" y="9087"/>
                  <a:pt x="18976" y="9103"/>
                </a:cubicBezTo>
                <a:cubicBezTo>
                  <a:pt x="19051" y="9070"/>
                  <a:pt x="19129" y="9029"/>
                  <a:pt x="19199" y="9103"/>
                </a:cubicBezTo>
                <a:cubicBezTo>
                  <a:pt x="19275" y="9184"/>
                  <a:pt x="19144" y="9282"/>
                  <a:pt x="19075" y="9302"/>
                </a:cubicBezTo>
                <a:cubicBezTo>
                  <a:pt x="18982" y="9329"/>
                  <a:pt x="18950" y="9257"/>
                  <a:pt x="18901" y="920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1920" y="2589120"/>
            <a:ext cx="98280" cy="12564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9893" y="7342"/>
                </a:moveTo>
                <a:cubicBezTo>
                  <a:pt x="19893" y="7311"/>
                  <a:pt x="19888" y="7234"/>
                  <a:pt x="19869" y="7218"/>
                </a:cubicBezTo>
                <a:cubicBezTo>
                  <a:pt x="19842" y="7195"/>
                  <a:pt x="19769" y="7204"/>
                  <a:pt x="19745" y="7218"/>
                </a:cubicBezTo>
                <a:cubicBezTo>
                  <a:pt x="19664" y="7265"/>
                  <a:pt x="19650" y="7410"/>
                  <a:pt x="19670" y="7491"/>
                </a:cubicBezTo>
                <a:cubicBezTo>
                  <a:pt x="19678" y="7508"/>
                  <a:pt x="19687" y="7524"/>
                  <a:pt x="19695" y="7541"/>
                </a:cubicBezTo>
                <a:cubicBezTo>
                  <a:pt x="19790" y="7525"/>
                  <a:pt x="19864" y="7498"/>
                  <a:pt x="19918" y="7417"/>
                </a:cubicBezTo>
                <a:cubicBezTo>
                  <a:pt x="19951" y="7368"/>
                  <a:pt x="19924" y="7319"/>
                  <a:pt x="19869" y="7293"/>
                </a:cubicBezTo>
                <a:cubicBezTo>
                  <a:pt x="19844" y="7285"/>
                  <a:pt x="19819" y="7276"/>
                  <a:pt x="19794" y="726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1920" y="2732040"/>
            <a:ext cx="27000" cy="376200"/>
          </a:xfrm>
          <a:custGeom>
            <a:avLst/>
            <a:gdLst/>
            <a:ahLst/>
            <a:rect l="l" t="t" r="r" b="b"/>
            <a:pathLst>
              <a:path w="76" h="1043">
                <a:moveTo>
                  <a:pt x="19720" y="7590"/>
                </a:moveTo>
                <a:cubicBezTo>
                  <a:pt x="19739" y="7725"/>
                  <a:pt x="19745" y="7848"/>
                  <a:pt x="19745" y="7987"/>
                </a:cubicBezTo>
                <a:cubicBezTo>
                  <a:pt x="19745" y="8124"/>
                  <a:pt x="19752" y="8277"/>
                  <a:pt x="19720" y="8409"/>
                </a:cubicBezTo>
                <a:cubicBezTo>
                  <a:pt x="19706" y="8467"/>
                  <a:pt x="19685" y="8531"/>
                  <a:pt x="19670" y="8582"/>
                </a:cubicBezTo>
                <a:cubicBezTo>
                  <a:pt x="19668" y="8589"/>
                  <a:pt x="19670" y="8675"/>
                  <a:pt x="19670" y="860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317016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19521" y="8880"/>
                </a:moveTo>
                <a:cubicBezTo>
                  <a:pt x="19550" y="8851"/>
                  <a:pt x="19562" y="8842"/>
                  <a:pt x="19571" y="8806"/>
                </a:cubicBezTo>
                <a:cubicBezTo>
                  <a:pt x="19488" y="8826"/>
                  <a:pt x="19464" y="8896"/>
                  <a:pt x="19447" y="8979"/>
                </a:cubicBezTo>
                <a:cubicBezTo>
                  <a:pt x="19430" y="9061"/>
                  <a:pt x="19525" y="9115"/>
                  <a:pt x="19596" y="9103"/>
                </a:cubicBezTo>
                <a:cubicBezTo>
                  <a:pt x="19681" y="9089"/>
                  <a:pt x="19773" y="9000"/>
                  <a:pt x="19769" y="8905"/>
                </a:cubicBezTo>
                <a:cubicBezTo>
                  <a:pt x="19766" y="8828"/>
                  <a:pt x="19651" y="8809"/>
                  <a:pt x="19596" y="8806"/>
                </a:cubicBezTo>
                <a:cubicBezTo>
                  <a:pt x="19554" y="8806"/>
                  <a:pt x="19546" y="8806"/>
                  <a:pt x="19521" y="88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53200" y="2295360"/>
            <a:ext cx="81000" cy="16056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9869" y="6524"/>
                </a:moveTo>
                <a:cubicBezTo>
                  <a:pt x="19869" y="6497"/>
                  <a:pt x="19880" y="6437"/>
                  <a:pt x="19893" y="6424"/>
                </a:cubicBezTo>
                <a:cubicBezTo>
                  <a:pt x="19950" y="6397"/>
                  <a:pt x="19974" y="6386"/>
                  <a:pt x="20017" y="6375"/>
                </a:cubicBezTo>
                <a:cubicBezTo>
                  <a:pt x="20043" y="6470"/>
                  <a:pt x="20054" y="6495"/>
                  <a:pt x="19993" y="6573"/>
                </a:cubicBezTo>
                <a:cubicBezTo>
                  <a:pt x="20042" y="6573"/>
                  <a:pt x="20099" y="6572"/>
                  <a:pt x="20092" y="6648"/>
                </a:cubicBezTo>
                <a:cubicBezTo>
                  <a:pt x="20084" y="6739"/>
                  <a:pt x="19998" y="6797"/>
                  <a:pt x="19918" y="6821"/>
                </a:cubicBezTo>
                <a:cubicBezTo>
                  <a:pt x="19910" y="6821"/>
                  <a:pt x="19901" y="6821"/>
                  <a:pt x="19893" y="68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5640" y="3375000"/>
            <a:ext cx="9036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9100" y="9426"/>
                </a:moveTo>
                <a:cubicBezTo>
                  <a:pt x="19131" y="9468"/>
                  <a:pt x="19124" y="9495"/>
                  <a:pt x="19124" y="9550"/>
                </a:cubicBezTo>
                <a:cubicBezTo>
                  <a:pt x="19207" y="9536"/>
                  <a:pt x="19303" y="9516"/>
                  <a:pt x="19348" y="9426"/>
                </a:cubicBezTo>
                <a:cubicBezTo>
                  <a:pt x="19348" y="9391"/>
                  <a:pt x="19339" y="9378"/>
                  <a:pt x="19298" y="9376"/>
                </a:cubicBezTo>
                <a:cubicBezTo>
                  <a:pt x="19298" y="9443"/>
                  <a:pt x="19289" y="9487"/>
                  <a:pt x="19298" y="9550"/>
                </a:cubicBezTo>
                <a:cubicBezTo>
                  <a:pt x="19298" y="9558"/>
                  <a:pt x="19298" y="9567"/>
                  <a:pt x="19298" y="957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54920" y="3340080"/>
            <a:ext cx="61920" cy="982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19596" y="9277"/>
                </a:moveTo>
                <a:cubicBezTo>
                  <a:pt x="19596" y="9336"/>
                  <a:pt x="19582" y="9349"/>
                  <a:pt x="19645" y="9376"/>
                </a:cubicBezTo>
                <a:cubicBezTo>
                  <a:pt x="19707" y="9403"/>
                  <a:pt x="19800" y="9398"/>
                  <a:pt x="19769" y="9500"/>
                </a:cubicBezTo>
                <a:cubicBezTo>
                  <a:pt x="19733" y="9621"/>
                  <a:pt x="19631" y="9511"/>
                  <a:pt x="19596" y="947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54920" y="3330720"/>
            <a:ext cx="81000" cy="27000"/>
          </a:xfrm>
          <a:custGeom>
            <a:avLst/>
            <a:gdLst/>
            <a:ahLst/>
            <a:rect l="l" t="t" r="r" b="b"/>
            <a:pathLst>
              <a:path w="224" h="76">
                <a:moveTo>
                  <a:pt x="19596" y="9277"/>
                </a:moveTo>
                <a:cubicBezTo>
                  <a:pt x="19640" y="9265"/>
                  <a:pt x="19771" y="9222"/>
                  <a:pt x="19819" y="9252"/>
                </a:cubicBezTo>
                <a:cubicBezTo>
                  <a:pt x="19819" y="9287"/>
                  <a:pt x="19814" y="9305"/>
                  <a:pt x="19794" y="932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42080" y="343836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8728" y="9575"/>
                </a:moveTo>
                <a:cubicBezTo>
                  <a:pt x="18765" y="9546"/>
                  <a:pt x="18779" y="9550"/>
                  <a:pt x="18827" y="955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69080" y="349092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18802" y="9748"/>
                </a:moveTo>
                <a:cubicBezTo>
                  <a:pt x="18966" y="9784"/>
                  <a:pt x="19182" y="9782"/>
                  <a:pt x="19348" y="9748"/>
                </a:cubicBezTo>
                <a:cubicBezTo>
                  <a:pt x="19457" y="9726"/>
                  <a:pt x="19509" y="9699"/>
                  <a:pt x="19621" y="969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00920" y="358128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9596" y="9947"/>
                </a:moveTo>
                <a:cubicBezTo>
                  <a:pt x="19550" y="9992"/>
                  <a:pt x="19480" y="10017"/>
                  <a:pt x="19447" y="10046"/>
                </a:cubicBezTo>
                <a:cubicBezTo>
                  <a:pt x="19447" y="10054"/>
                  <a:pt x="19447" y="10063"/>
                  <a:pt x="19447" y="10071"/>
                </a:cubicBezTo>
                <a:cubicBezTo>
                  <a:pt x="19466" y="10129"/>
                  <a:pt x="19560" y="10109"/>
                  <a:pt x="19621" y="10120"/>
                </a:cubicBezTo>
                <a:cubicBezTo>
                  <a:pt x="19698" y="10134"/>
                  <a:pt x="19757" y="10154"/>
                  <a:pt x="19819" y="10195"/>
                </a:cubicBezTo>
                <a:cubicBezTo>
                  <a:pt x="19758" y="10280"/>
                  <a:pt x="19678" y="10299"/>
                  <a:pt x="19571" y="10244"/>
                </a:cubicBezTo>
                <a:cubicBezTo>
                  <a:pt x="19554" y="10228"/>
                  <a:pt x="19538" y="10211"/>
                  <a:pt x="19521" y="1019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72200" y="354492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9645" y="9897"/>
                </a:moveTo>
                <a:cubicBezTo>
                  <a:pt x="19698" y="9870"/>
                  <a:pt x="19735" y="9847"/>
                  <a:pt x="19794" y="984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6200" y="217800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9819" y="6077"/>
                </a:moveTo>
                <a:cubicBezTo>
                  <a:pt x="19794" y="6077"/>
                  <a:pt x="19786" y="6077"/>
                  <a:pt x="19794" y="6052"/>
                </a:cubicBezTo>
                <a:cubicBezTo>
                  <a:pt x="19861" y="6052"/>
                  <a:pt x="20023" y="6021"/>
                  <a:pt x="20042" y="607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89040" y="4848120"/>
            <a:ext cx="169920" cy="22392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4713" y="13494"/>
                </a:moveTo>
                <a:cubicBezTo>
                  <a:pt x="4660" y="13454"/>
                  <a:pt x="4575" y="13511"/>
                  <a:pt x="4539" y="13568"/>
                </a:cubicBezTo>
                <a:cubicBezTo>
                  <a:pt x="4474" y="13670"/>
                  <a:pt x="4374" y="13895"/>
                  <a:pt x="4440" y="14015"/>
                </a:cubicBezTo>
                <a:cubicBezTo>
                  <a:pt x="4513" y="14149"/>
                  <a:pt x="4731" y="14113"/>
                  <a:pt x="4812" y="14015"/>
                </a:cubicBezTo>
                <a:cubicBezTo>
                  <a:pt x="4917" y="13888"/>
                  <a:pt x="4881" y="13791"/>
                  <a:pt x="4837" y="13667"/>
                </a:cubicBezTo>
                <a:cubicBezTo>
                  <a:pt x="4820" y="13620"/>
                  <a:pt x="4815" y="13618"/>
                  <a:pt x="4762" y="13618"/>
                </a:cubicBezTo>
                <a:cubicBezTo>
                  <a:pt x="4754" y="13618"/>
                  <a:pt x="4746" y="13618"/>
                  <a:pt x="4738" y="1361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9960" y="504504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5110" y="14015"/>
                </a:moveTo>
                <a:cubicBezTo>
                  <a:pt x="5110" y="14039"/>
                  <a:pt x="5110" y="14048"/>
                  <a:pt x="5110" y="1406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4867200"/>
            <a:ext cx="9828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5680" y="13767"/>
                </a:moveTo>
                <a:cubicBezTo>
                  <a:pt x="5701" y="13711"/>
                  <a:pt x="5734" y="13622"/>
                  <a:pt x="5680" y="13568"/>
                </a:cubicBezTo>
                <a:cubicBezTo>
                  <a:pt x="5635" y="13523"/>
                  <a:pt x="5564" y="13508"/>
                  <a:pt x="5507" y="13568"/>
                </a:cubicBezTo>
                <a:cubicBezTo>
                  <a:pt x="5453" y="13626"/>
                  <a:pt x="5441" y="13672"/>
                  <a:pt x="5432" y="13742"/>
                </a:cubicBezTo>
                <a:cubicBezTo>
                  <a:pt x="5552" y="13742"/>
                  <a:pt x="5581" y="13745"/>
                  <a:pt x="5655" y="13667"/>
                </a:cubicBezTo>
                <a:cubicBezTo>
                  <a:pt x="5697" y="13623"/>
                  <a:pt x="5705" y="13564"/>
                  <a:pt x="5705" y="13593"/>
                </a:cubicBezTo>
                <a:cubicBezTo>
                  <a:pt x="5705" y="13775"/>
                  <a:pt x="5705" y="13957"/>
                  <a:pt x="5705" y="141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4830840"/>
            <a:ext cx="571680" cy="295200"/>
          </a:xfrm>
          <a:custGeom>
            <a:avLst/>
            <a:gdLst/>
            <a:ahLst/>
            <a:rect l="l" t="t" r="r" b="b"/>
            <a:pathLst>
              <a:path w="1588" h="820">
                <a:moveTo>
                  <a:pt x="4266" y="14238"/>
                </a:moveTo>
                <a:cubicBezTo>
                  <a:pt x="4245" y="14174"/>
                  <a:pt x="4247" y="14095"/>
                  <a:pt x="4266" y="13990"/>
                </a:cubicBezTo>
                <a:cubicBezTo>
                  <a:pt x="4293" y="13842"/>
                  <a:pt x="4313" y="13688"/>
                  <a:pt x="4341" y="13543"/>
                </a:cubicBezTo>
                <a:cubicBezTo>
                  <a:pt x="4347" y="13514"/>
                  <a:pt x="4363" y="13484"/>
                  <a:pt x="4366" y="13444"/>
                </a:cubicBezTo>
                <a:cubicBezTo>
                  <a:pt x="4460" y="13436"/>
                  <a:pt x="4541" y="13421"/>
                  <a:pt x="4638" y="13419"/>
                </a:cubicBezTo>
                <a:cubicBezTo>
                  <a:pt x="4899" y="13414"/>
                  <a:pt x="5173" y="13437"/>
                  <a:pt x="5432" y="13469"/>
                </a:cubicBezTo>
                <a:cubicBezTo>
                  <a:pt x="5566" y="13486"/>
                  <a:pt x="5685" y="13511"/>
                  <a:pt x="5804" y="13543"/>
                </a:cubicBezTo>
                <a:cubicBezTo>
                  <a:pt x="5812" y="13543"/>
                  <a:pt x="5821" y="13543"/>
                  <a:pt x="5829" y="1354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54080" y="4875120"/>
            <a:ext cx="115920" cy="20664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3026" y="13543"/>
                </a:moveTo>
                <a:cubicBezTo>
                  <a:pt x="2974" y="13560"/>
                  <a:pt x="2935" y="13676"/>
                  <a:pt x="2927" y="13742"/>
                </a:cubicBezTo>
                <a:cubicBezTo>
                  <a:pt x="2910" y="13881"/>
                  <a:pt x="2952" y="14007"/>
                  <a:pt x="3026" y="14114"/>
                </a:cubicBezTo>
                <a:cubicBezTo>
                  <a:pt x="3122" y="14082"/>
                  <a:pt x="3224" y="14006"/>
                  <a:pt x="3249" y="13891"/>
                </a:cubicBezTo>
                <a:cubicBezTo>
                  <a:pt x="3276" y="13770"/>
                  <a:pt x="3223" y="13725"/>
                  <a:pt x="3150" y="13643"/>
                </a:cubicBezTo>
                <a:cubicBezTo>
                  <a:pt x="3134" y="13626"/>
                  <a:pt x="3117" y="13610"/>
                  <a:pt x="3101" y="1359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5045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4015"/>
                </a:moveTo>
                <a:lnTo>
                  <a:pt x="3497" y="14015"/>
                </a:lnTo>
                <a:lnTo>
                  <a:pt x="3497" y="14015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57200" y="49118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3795" y="13692"/>
                </a:moveTo>
                <a:cubicBezTo>
                  <a:pt x="3822" y="13660"/>
                  <a:pt x="3863" y="13613"/>
                  <a:pt x="3919" y="13643"/>
                </a:cubicBezTo>
                <a:cubicBezTo>
                  <a:pt x="3954" y="13662"/>
                  <a:pt x="4009" y="13716"/>
                  <a:pt x="3969" y="13767"/>
                </a:cubicBezTo>
                <a:cubicBezTo>
                  <a:pt x="3919" y="13791"/>
                  <a:pt x="3902" y="13799"/>
                  <a:pt x="3894" y="13841"/>
                </a:cubicBezTo>
                <a:cubicBezTo>
                  <a:pt x="3949" y="13821"/>
                  <a:pt x="4063" y="13782"/>
                  <a:pt x="4043" y="13891"/>
                </a:cubicBezTo>
                <a:cubicBezTo>
                  <a:pt x="4025" y="13988"/>
                  <a:pt x="3905" y="14031"/>
                  <a:pt x="3820" y="14015"/>
                </a:cubicBezTo>
                <a:cubicBezTo>
                  <a:pt x="3803" y="14007"/>
                  <a:pt x="3787" y="13998"/>
                  <a:pt x="3770" y="1399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85920" y="5045040"/>
            <a:ext cx="196920" cy="108000"/>
          </a:xfrm>
          <a:custGeom>
            <a:avLst/>
            <a:gdLst/>
            <a:ahLst/>
            <a:rect l="l" t="t" r="r" b="b"/>
            <a:pathLst>
              <a:path w="547" h="298">
                <a:moveTo>
                  <a:pt x="3572" y="14015"/>
                </a:moveTo>
                <a:cubicBezTo>
                  <a:pt x="3585" y="14105"/>
                  <a:pt x="3613" y="14190"/>
                  <a:pt x="3671" y="14263"/>
                </a:cubicBezTo>
                <a:cubicBezTo>
                  <a:pt x="3753" y="14366"/>
                  <a:pt x="3932" y="14247"/>
                  <a:pt x="4018" y="14188"/>
                </a:cubicBezTo>
                <a:cubicBezTo>
                  <a:pt x="4060" y="14159"/>
                  <a:pt x="4107" y="14109"/>
                  <a:pt x="4118" y="1406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47880" y="5089680"/>
            <a:ext cx="331920" cy="134640"/>
          </a:xfrm>
          <a:custGeom>
            <a:avLst/>
            <a:gdLst/>
            <a:ahLst/>
            <a:rect l="l" t="t" r="r" b="b"/>
            <a:pathLst>
              <a:path w="918" h="373">
                <a:moveTo>
                  <a:pt x="5135" y="14139"/>
                </a:moveTo>
                <a:cubicBezTo>
                  <a:pt x="5208" y="14157"/>
                  <a:pt x="5182" y="14184"/>
                  <a:pt x="5209" y="14238"/>
                </a:cubicBezTo>
                <a:cubicBezTo>
                  <a:pt x="5261" y="14342"/>
                  <a:pt x="5320" y="14422"/>
                  <a:pt x="5432" y="14461"/>
                </a:cubicBezTo>
                <a:cubicBezTo>
                  <a:pt x="5590" y="14516"/>
                  <a:pt x="5695" y="14500"/>
                  <a:pt x="5854" y="14461"/>
                </a:cubicBezTo>
                <a:cubicBezTo>
                  <a:pt x="5937" y="14441"/>
                  <a:pt x="6033" y="14405"/>
                  <a:pt x="6052" y="14312"/>
                </a:cubicBezTo>
                <a:cubicBezTo>
                  <a:pt x="6052" y="14304"/>
                  <a:pt x="6052" y="14296"/>
                  <a:pt x="6052" y="1428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60720" y="505476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6052" y="14114"/>
                </a:moveTo>
                <a:cubicBezTo>
                  <a:pt x="6011" y="14114"/>
                  <a:pt x="5995" y="14106"/>
                  <a:pt x="6003" y="14139"/>
                </a:cubicBezTo>
                <a:cubicBezTo>
                  <a:pt x="6046" y="14139"/>
                  <a:pt x="6062" y="14133"/>
                  <a:pt x="6077" y="14089"/>
                </a:cubicBezTo>
                <a:cubicBezTo>
                  <a:pt x="6093" y="14041"/>
                  <a:pt x="6032" y="14045"/>
                  <a:pt x="6003" y="140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2880" y="4813200"/>
            <a:ext cx="339480" cy="54000"/>
          </a:xfrm>
          <a:custGeom>
            <a:avLst/>
            <a:gdLst/>
            <a:ahLst/>
            <a:rect l="l" t="t" r="r" b="b"/>
            <a:pathLst>
              <a:path w="943" h="150">
                <a:moveTo>
                  <a:pt x="5705" y="13370"/>
                </a:moveTo>
                <a:cubicBezTo>
                  <a:pt x="5652" y="13370"/>
                  <a:pt x="5632" y="13386"/>
                  <a:pt x="5581" y="13395"/>
                </a:cubicBezTo>
                <a:cubicBezTo>
                  <a:pt x="5540" y="13395"/>
                  <a:pt x="5532" y="13395"/>
                  <a:pt x="5507" y="13395"/>
                </a:cubicBezTo>
                <a:cubicBezTo>
                  <a:pt x="5525" y="13450"/>
                  <a:pt x="5598" y="13431"/>
                  <a:pt x="5655" y="13444"/>
                </a:cubicBezTo>
                <a:cubicBezTo>
                  <a:pt x="5773" y="13471"/>
                  <a:pt x="5883" y="13452"/>
                  <a:pt x="6003" y="13469"/>
                </a:cubicBezTo>
                <a:cubicBezTo>
                  <a:pt x="6103" y="13483"/>
                  <a:pt x="6200" y="13514"/>
                  <a:pt x="6300" y="13519"/>
                </a:cubicBezTo>
                <a:cubicBezTo>
                  <a:pt x="6349" y="13522"/>
                  <a:pt x="6400" y="13519"/>
                  <a:pt x="6449" y="1351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87720" y="4724280"/>
            <a:ext cx="36360" cy="619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6127" y="13146"/>
                </a:moveTo>
                <a:cubicBezTo>
                  <a:pt x="6127" y="13095"/>
                  <a:pt x="6069" y="13196"/>
                  <a:pt x="6077" y="13221"/>
                </a:cubicBezTo>
                <a:cubicBezTo>
                  <a:pt x="6091" y="13269"/>
                  <a:pt x="6171" y="13259"/>
                  <a:pt x="6176" y="13221"/>
                </a:cubicBezTo>
                <a:cubicBezTo>
                  <a:pt x="6176" y="13213"/>
                  <a:pt x="6176" y="13204"/>
                  <a:pt x="6176" y="13196"/>
                </a:cubicBezTo>
                <a:cubicBezTo>
                  <a:pt x="6134" y="13190"/>
                  <a:pt x="6029" y="13223"/>
                  <a:pt x="6102" y="13295"/>
                </a:cubicBezTo>
                <a:cubicBezTo>
                  <a:pt x="6135" y="13295"/>
                  <a:pt x="6151" y="13295"/>
                  <a:pt x="6176" y="13295"/>
                </a:cubicBezTo>
                <a:cubicBezTo>
                  <a:pt x="6176" y="13250"/>
                  <a:pt x="6197" y="13203"/>
                  <a:pt x="6127" y="13221"/>
                </a:cubicBezTo>
                <a:cubicBezTo>
                  <a:pt x="6086" y="13241"/>
                  <a:pt x="6070" y="13239"/>
                  <a:pt x="6077" y="1327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28880" y="4500720"/>
            <a:ext cx="115920" cy="20628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5432" y="12576"/>
                </a:moveTo>
                <a:cubicBezTo>
                  <a:pt x="5468" y="12505"/>
                  <a:pt x="5551" y="12493"/>
                  <a:pt x="5631" y="12526"/>
                </a:cubicBezTo>
                <a:cubicBezTo>
                  <a:pt x="5737" y="12570"/>
                  <a:pt x="5629" y="12666"/>
                  <a:pt x="5581" y="12700"/>
                </a:cubicBezTo>
                <a:cubicBezTo>
                  <a:pt x="5544" y="12726"/>
                  <a:pt x="5499" y="12742"/>
                  <a:pt x="5457" y="12750"/>
                </a:cubicBezTo>
                <a:cubicBezTo>
                  <a:pt x="5571" y="12750"/>
                  <a:pt x="5621" y="12736"/>
                  <a:pt x="5655" y="12874"/>
                </a:cubicBezTo>
                <a:cubicBezTo>
                  <a:pt x="5687" y="13004"/>
                  <a:pt x="5593" y="13055"/>
                  <a:pt x="5482" y="13072"/>
                </a:cubicBezTo>
                <a:cubicBezTo>
                  <a:pt x="5421" y="13081"/>
                  <a:pt x="5372" y="13064"/>
                  <a:pt x="5358" y="1302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55880" y="518796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5631" y="14635"/>
                </a:moveTo>
                <a:cubicBezTo>
                  <a:pt x="5654" y="14594"/>
                  <a:pt x="5677" y="14537"/>
                  <a:pt x="5680" y="14486"/>
                </a:cubicBezTo>
                <a:cubicBezTo>
                  <a:pt x="5680" y="14461"/>
                  <a:pt x="5680" y="14437"/>
                  <a:pt x="5680" y="14412"/>
                </a:cubicBezTo>
                <a:cubicBezTo>
                  <a:pt x="5623" y="14412"/>
                  <a:pt x="5526" y="14421"/>
                  <a:pt x="5482" y="14461"/>
                </a:cubicBezTo>
                <a:cubicBezTo>
                  <a:pt x="5391" y="14544"/>
                  <a:pt x="5425" y="14633"/>
                  <a:pt x="5531" y="14660"/>
                </a:cubicBezTo>
                <a:cubicBezTo>
                  <a:pt x="5595" y="14676"/>
                  <a:pt x="5730" y="14573"/>
                  <a:pt x="5730" y="14511"/>
                </a:cubicBezTo>
                <a:cubicBezTo>
                  <a:pt x="5730" y="14494"/>
                  <a:pt x="5680" y="14684"/>
                  <a:pt x="5680" y="14684"/>
                </a:cubicBezTo>
                <a:cubicBezTo>
                  <a:pt x="5666" y="14745"/>
                  <a:pt x="5642" y="14800"/>
                  <a:pt x="5631" y="1485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7680" y="5214960"/>
            <a:ext cx="9036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4688" y="14486"/>
                </a:moveTo>
                <a:cubicBezTo>
                  <a:pt x="4776" y="14486"/>
                  <a:pt x="4851" y="14513"/>
                  <a:pt x="4936" y="1453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8960" y="5438880"/>
            <a:ext cx="312840" cy="9360"/>
          </a:xfrm>
          <a:custGeom>
            <a:avLst/>
            <a:gdLst/>
            <a:ahLst/>
            <a:rect l="l" t="t" r="r" b="b"/>
            <a:pathLst>
              <a:path w="869" h="26">
                <a:moveTo>
                  <a:pt x="4887" y="15131"/>
                </a:moveTo>
                <a:cubicBezTo>
                  <a:pt x="5078" y="15131"/>
                  <a:pt x="5265" y="15109"/>
                  <a:pt x="5457" y="15106"/>
                </a:cubicBezTo>
                <a:cubicBezTo>
                  <a:pt x="5556" y="15104"/>
                  <a:pt x="5656" y="15106"/>
                  <a:pt x="5755" y="151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9160" y="5510160"/>
            <a:ext cx="125640" cy="16056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5581" y="15304"/>
                </a:moveTo>
                <a:cubicBezTo>
                  <a:pt x="5507" y="15394"/>
                  <a:pt x="5445" y="15479"/>
                  <a:pt x="5383" y="15577"/>
                </a:cubicBezTo>
                <a:cubicBezTo>
                  <a:pt x="5336" y="15648"/>
                  <a:pt x="5319" y="15667"/>
                  <a:pt x="5333" y="15726"/>
                </a:cubicBezTo>
                <a:cubicBezTo>
                  <a:pt x="5455" y="15741"/>
                  <a:pt x="5613" y="15747"/>
                  <a:pt x="5680" y="15602"/>
                </a:cubicBezTo>
                <a:cubicBezTo>
                  <a:pt x="5695" y="15570"/>
                  <a:pt x="5682" y="15451"/>
                  <a:pt x="5655" y="15429"/>
                </a:cubicBezTo>
                <a:cubicBezTo>
                  <a:pt x="5615" y="15409"/>
                  <a:pt x="5609" y="15400"/>
                  <a:pt x="5581" y="1540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569"/>
                </a:solidFill>
                <a:latin typeface="Tahoma"/>
              </a:rPr>
              <a:t>Objective:  Students will divide by a decimal.</a:t>
            </a:r>
            <a:br>
              <a:rPr sz="2000"/>
            </a:b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Real life applications: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1.) A stack of books is 1.35 meters tall. Each book is 0.09 meters thick. How many books are in the stack ?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2.) Juan drives his car 470.8 miles and uses 14.5 gallons of gas. Find the gas mileage of Juan’s car. (round to the nearest tenth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Homework: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ourse 1:  Workbook p.53 1-15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ourse 2:  Workbook p. 21 15-20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4:32:09Z</dcterms:created>
  <dc:creator>ccps</dc:creator>
  <dc:description/>
  <dc:language>en-US</dc:language>
  <cp:lastModifiedBy>ccps</cp:lastModifiedBy>
  <dcterms:modified xsi:type="dcterms:W3CDTF">2010-04-13T17:28:06Z</dcterms:modified>
  <cp:revision>9</cp:revision>
  <dc:subject/>
  <dc:title>Unit 11</dc:title>
</cp:coreProperties>
</file>